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206000" y="703440"/>
            <a:ext cx="463572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39960" y="441468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62C6B7-177F-4126-99BA-3563B920EC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A8D68E-235E-49A5-9152-AFA05A7016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16A321-4768-423F-B503-4523A78FBF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C9BB85-ADA4-4AF8-8FA8-F4A5A5D8AB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8663A6-37AB-4320-B8C6-64B3BAA195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notation is used since all values are spec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049F8F-3FC6-4BCB-9750-C713DC9BD5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A46B23-015E-4EC5-9680-2DF41561AA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tudents verify thes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03315F-BCF5-473A-B9F4-06EBFABEFC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56C780-5A41-4FB7-9262-88AF0A31E1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vertical bars (n) increases, the errors due to approximating with the normal de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9AF4B4-8FE8-456E-9880-9B0EFF388A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F21F59-82E9-404F-85B8-9F3D9C3A85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has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st Gra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nspecting 5 items &amp; the probability of a defect i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.1  (10%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probability of finding 0 defective item is about 0.6 (60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nspecting 5 items &amp; the probability of a defect i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.1  (10%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probability of finding 1 defective items is about .35 (35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nd Grap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nspecting 5 items &amp; the probability of a defect i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.5  (50%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probability of finding 1 defective items is about .18 (18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us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end of text to get prob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145076-BCC1-461A-A2B0-637A5D27D5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C11C49-0E02-48F9-B047-6026D539E2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8D8CEC-D463-4537-AC74-197FA1164A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consistent with the Berenson &amp; Levine text, a simple event is shown.  Typically, this is not considered an event since it is not an outcome of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6E87CE-254B-462E-B92C-44444AF973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891A03-91BA-42E0-AAE3-39AA0CF7D5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D02134-81C5-4AF8-BF9B-09AA6922D6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9CB655-F98F-419B-98B8-4E0CB3BBFF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FEEF6D-CD55-4B7A-9DF7-DF24FF5C99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7B2FEF-E825-478C-AEC5-488CC4D377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jection region does NOT include critical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0C1A82-6532-4A5B-A386-A742432105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jection region does NOT include critical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ject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-Test Statistic &gt; Critical Z Valu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-Test Statistic &lt; Critical Z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395718-53CF-424F-889A-E749BD004E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BE0716-3697-43AA-9546-D7507A2804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BB8645-D431-4D42-AC9E-3CCBAF59CB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190A97C-2B8A-4275-8B9B-94E9E666EB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1FF-FFE9-41EA-879C-0B5E3EE0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9FD-C715-4173-8735-95CEA1FF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A0D-CD58-4CEC-BA1C-9B9AB19C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7B6-3CCA-4D20-8BD0-B865DAC0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4EF1-716D-4659-AD80-072F86EC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CED3-11BA-4856-9AD7-6A007CA6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D3A4-4077-47BE-8A15-01BB8CAE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80D9-E730-496C-AF56-54A19BC6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F9AE-BF2F-4482-BFA0-1D9BEBEC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416F-4E5E-4572-A81E-26F69D04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1DED-2C12-4D2D-8952-2767E29F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CD0-825B-4F07-B2E0-7B19EBAF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59AC-79D7-4EB8-A888-90BB03C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E485-70DA-482D-B81B-EE11351A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6C52-E76E-4F11-A1B3-6ADC6093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6622-E225-4C93-B159-47CB4055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9418-1C7A-4BA2-91C1-7E245B6D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FDA-54F5-4450-BC3D-3F598AD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D6C-F3A1-40FB-913D-EF4BE492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032-2BF1-4DEA-8FD9-12245E9B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D5A-7E61-4020-AAB5-2BD73874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D69-6DC7-486A-91FC-324A597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7A7-06AA-46E8-8809-B9FAA91C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88D-9D8B-4737-BF08-9B46E3EF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18D7-AF6F-4656-889E-36D307097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D383-C282-4C71-8AEA-B241E11F6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762120" y="4343400"/>
            <a:ext cx="7924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ment Tools –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26668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Aft>
                <a:spcPts val="2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SF CFA Quant.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65040" y="2286000"/>
            <a:ext cx="2835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nt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s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one die with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dd the individ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Addition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proba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+ P(B) - P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/6 + 1/6 -1/3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1/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352680" y="2362320"/>
          <a:ext cx="5410440" cy="35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541044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5715000" y="1981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6560" y="365760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99960" y="228600"/>
            <a:ext cx="67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 Rule f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1240" y="1066680"/>
            <a:ext cx="3349080" cy="1008720"/>
          </a:xfrm>
          <a:prstGeom prst="rect">
            <a:avLst/>
          </a:prstGeom>
          <a:solidFill>
            <a:srgbClr val="e5d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wing at least one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wing 1 with the two D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285-50EF-4BDE-92A5-CAFA32BF7D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65040" y="2286000"/>
            <a:ext cx="2835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nt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s that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die with 4 or gre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add the individ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Addition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proba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+ P(B) - P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/2 + 1/2 -1/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733920" y="2514600"/>
          <a:ext cx="4960800" cy="32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514600"/>
                    <a:ext cx="49608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5486400" y="1981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0" y="388620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95280" y="228600"/>
            <a:ext cx="48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 Rule - A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90720"/>
            <a:ext cx="3370320" cy="1008720"/>
          </a:xfrm>
          <a:prstGeom prst="rect">
            <a:avLst/>
          </a:prstGeom>
          <a:solidFill>
            <a:srgbClr val="e5d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wing a four or higher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ther the first or second d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60B-F38B-4278-A9F4-B9AD1B4541B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7993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ditional Prob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7080" indent="-5281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that one Event will occu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nother Event has already occur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a Conditional probability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7080" indent="-528120">
              <a:lnSpc>
                <a:spcPct val="100000"/>
              </a:lnSpc>
              <a:spcBef>
                <a:spcPts val="986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 Original Sample Space to Account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7080" indent="-528120">
              <a:lnSpc>
                <a:spcPct val="100000"/>
              </a:lnSpc>
              <a:spcBef>
                <a:spcPts val="11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Certain Outc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7080" indent="-52812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(A and B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P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4F8-6B91-476C-8017-5072CA2154AE}" type="slidenum">
              <a:t>12</a:t>
            </a:fld>
          </a:p>
        </p:txBody>
      </p:sp>
    </p:spTree>
  </p:cSld>
  <p:transition advTm="24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2666880" y="2362320"/>
          <a:ext cx="6337440" cy="367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362320"/>
                    <a:ext cx="633744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4800600" y="1981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10760" y="350532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95280" y="228600"/>
            <a:ext cx="51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" y="1143000"/>
            <a:ext cx="4191120" cy="703800"/>
          </a:xfrm>
          <a:prstGeom prst="rect">
            <a:avLst/>
          </a:prstGeom>
          <a:solidFill>
            <a:srgbClr val="e5d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Probability of  thr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an 8 if the first die is a 4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2057400"/>
            <a:ext cx="3809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e w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 we are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associat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4 for the first d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3 way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ssible s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s fo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die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ield a su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P(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/P(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3/36)/(6/36) =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F49-F071-411E-9237-3718A092BCC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Occurrence Do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fect Probability of Another 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ss first die, what does its outcome tell you about the likely results in tossing the second di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Nothing. The two die are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ality Not Im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s For Statistical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B) =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A and B) = P(A)*P(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027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stical Independenc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00600" y="4952880"/>
            <a:ext cx="3886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E8C-49BB-4735-8DB6-24588EF9CA05}" type="slidenum">
              <a:t>14</a:t>
            </a:fld>
          </a:p>
        </p:txBody>
      </p:sp>
    </p:spTree>
  </p:cSld>
  <p:transition advTm="24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723360" cy="59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ication Rul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2679840"/>
                <a:tab algn="l" pos="474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et Compound Probabilities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2679840"/>
                <a:tab algn="l" pos="474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Joint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2679840"/>
                <a:tab algn="l" pos="474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P(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B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A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2679840"/>
                <a:tab algn="l" pos="474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dependent Ev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P(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 = P(A)*P(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F92-094D-43C2-A061-A80E41118274}" type="slidenum">
              <a:t>15</a:t>
            </a:fld>
          </a:p>
        </p:txBody>
      </p:sp>
    </p:spTree>
  </p:cSld>
  <p:transition advTm="240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28600" y="1981080"/>
            <a:ext cx="4130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h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first die is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second die. W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ulti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to find pro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P(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(A)*P(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1/6)*(1/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1/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3352680" y="2362320"/>
          <a:ext cx="5511960" cy="318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362320"/>
                    <a:ext cx="551196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5105520" y="1981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20600" y="365760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286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 Rule with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280" y="1066680"/>
            <a:ext cx="4191120" cy="703800"/>
          </a:xfrm>
          <a:prstGeom prst="rect">
            <a:avLst/>
          </a:prstGeom>
          <a:solidFill>
            <a:srgbClr val="e5d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Probability of  thr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ake eyes” i.e. a 1 on each d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B60-1A28-4785-B3A8-9D84DCAA86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e R.V.’s - Summary Measur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82600" indent="-517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of Probability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182600" indent="-517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ed Average of All Possibl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182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82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… +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82600" indent="-517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ed Average Squared Deviation about M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82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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82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… +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)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dev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82600" indent="-517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re root of the variance. Measure of risk shows dispersion of possible outcomes around expected level of outco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B21-9223-4C2E-83DE-2ABF3119B3E9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n/Variance Calculation Tabl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93760" y="1797120"/>
            <a:ext cx="1764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81320" y="1797120"/>
            <a:ext cx="1728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62440" y="1797120"/>
            <a:ext cx="1728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25880" y="1797120"/>
            <a:ext cx="1764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72280" y="1797120"/>
            <a:ext cx="1728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60240" y="177804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99640" y="194328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70080" y="1778040"/>
            <a:ext cx="772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71280" y="194328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935000" y="1778040"/>
            <a:ext cx="30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49440" y="177804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90280" y="194328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55800" y="1778040"/>
            <a:ext cx="772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5560" y="194328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21080" y="1778040"/>
            <a:ext cx="30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05280" y="177804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44680" y="194328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09480" y="1778040"/>
            <a:ext cx="49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33840" y="1801800"/>
            <a:ext cx="3718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29200" y="1778040"/>
            <a:ext cx="536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9200" y="194328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54720" y="1778040"/>
            <a:ext cx="30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75320" y="1801800"/>
            <a:ext cx="3718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69000" y="1778040"/>
            <a:ext cx="30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89600" y="17175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09800" y="1800360"/>
            <a:ext cx="291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21400" y="177804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61160" y="1954080"/>
            <a:ext cx="240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22720" y="1800360"/>
            <a:ext cx="291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934320" y="1801800"/>
            <a:ext cx="3718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27640" y="1800360"/>
            <a:ext cx="291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38880" y="1746360"/>
            <a:ext cx="3016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59480" y="1800360"/>
            <a:ext cx="6037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85000" y="177804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024760" y="1954080"/>
            <a:ext cx="240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086320" y="1800360"/>
            <a:ext cx="291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6880" y="2389320"/>
            <a:ext cx="58896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880" y="2417760"/>
            <a:ext cx="588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93760" y="23893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93760" y="24177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49200" y="2389320"/>
            <a:ext cx="102240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49200" y="2417760"/>
            <a:ext cx="102240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1320" y="23893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81320" y="24177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36760" y="2389320"/>
            <a:ext cx="151596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36760" y="2417760"/>
            <a:ext cx="1515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62440" y="23893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62440" y="24177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17880" y="2389320"/>
            <a:ext cx="99864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17880" y="2417760"/>
            <a:ext cx="99864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25880" y="23893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25880" y="24177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981680" y="2389320"/>
            <a:ext cx="12808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81680" y="2417760"/>
            <a:ext cx="12808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72280" y="23893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272280" y="24177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27720" y="2389320"/>
            <a:ext cx="216396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327720" y="2417760"/>
            <a:ext cx="2163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93760" y="2444760"/>
            <a:ext cx="1764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1320" y="2444760"/>
            <a:ext cx="1728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62440" y="2444760"/>
            <a:ext cx="1728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925880" y="2444760"/>
            <a:ext cx="1764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72280" y="2444760"/>
            <a:ext cx="1728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6880" y="3036960"/>
            <a:ext cx="58896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93760" y="3036960"/>
            <a:ext cx="1764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22200" y="3036960"/>
            <a:ext cx="105120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1320" y="3036960"/>
            <a:ext cx="172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09760" y="3036960"/>
            <a:ext cx="154296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36960"/>
            <a:ext cx="172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0880" y="3036960"/>
            <a:ext cx="102564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25880" y="3036960"/>
            <a:ext cx="1764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3036960"/>
            <a:ext cx="13096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272280" y="3036960"/>
            <a:ext cx="172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00720" y="3036960"/>
            <a:ext cx="219096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93760" y="3065400"/>
            <a:ext cx="1764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1320" y="3065400"/>
            <a:ext cx="1728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62440" y="3065400"/>
            <a:ext cx="1728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925880" y="3065400"/>
            <a:ext cx="1764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272280" y="3065400"/>
            <a:ext cx="1728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6880" y="3657600"/>
            <a:ext cx="588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93760" y="3657600"/>
            <a:ext cx="1764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22200" y="3657600"/>
            <a:ext cx="105120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81320" y="3657600"/>
            <a:ext cx="172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09760" y="3657600"/>
            <a:ext cx="1542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62440" y="3657600"/>
            <a:ext cx="172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90880" y="3657600"/>
            <a:ext cx="102564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25880" y="3657600"/>
            <a:ext cx="1764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52880" y="3657600"/>
            <a:ext cx="13096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72280" y="3657600"/>
            <a:ext cx="172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00720" y="3657600"/>
            <a:ext cx="2190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93760" y="3686040"/>
            <a:ext cx="1764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1320" y="3686040"/>
            <a:ext cx="1728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62440" y="3686040"/>
            <a:ext cx="1728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25880" y="3686040"/>
            <a:ext cx="1764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72280" y="3686040"/>
            <a:ext cx="17280" cy="5828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6880" y="4278240"/>
            <a:ext cx="588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6880" y="4305240"/>
            <a:ext cx="588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93760" y="4278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93760" y="4305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49200" y="4278240"/>
            <a:ext cx="102240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49200" y="4305240"/>
            <a:ext cx="102240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81320" y="4278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1320" y="4305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336760" y="4278240"/>
            <a:ext cx="1515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36760" y="4305240"/>
            <a:ext cx="1515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62440" y="4278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62440" y="4305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917880" y="4278240"/>
            <a:ext cx="99864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17880" y="4305240"/>
            <a:ext cx="99864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25880" y="4278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25880" y="4305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81680" y="4278240"/>
            <a:ext cx="12808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81680" y="4305240"/>
            <a:ext cx="12808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2280" y="4278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272280" y="430524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7720" y="4278240"/>
            <a:ext cx="2163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327720" y="4305240"/>
            <a:ext cx="216396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1320" y="4334040"/>
            <a:ext cx="1728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62440" y="4334040"/>
            <a:ext cx="1728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25880" y="4334040"/>
            <a:ext cx="1764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72280" y="4334040"/>
            <a:ext cx="17280" cy="5824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7080" y="4314960"/>
            <a:ext cx="1030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43240" y="4330800"/>
            <a:ext cx="39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57440" y="433224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98280" y="449748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63800" y="4332240"/>
            <a:ext cx="772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63560" y="449748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29080" y="4332240"/>
            <a:ext cx="30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61200" y="4361040"/>
            <a:ext cx="36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51280" y="435924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53160" y="43149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94360" y="4492800"/>
            <a:ext cx="23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49800" y="435924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51680" y="4338720"/>
            <a:ext cx="3718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245000" y="435924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46880" y="4299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57400" y="4359240"/>
            <a:ext cx="57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51600" y="431496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093160" y="4492800"/>
            <a:ext cx="23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48240" y="435924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782-0EF9-47E1-81E2-FCFE664ABAB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3200400"/>
            <a:ext cx="7010280" cy="2438280"/>
          </a:xfrm>
          <a:prstGeom prst="rect">
            <a:avLst/>
          </a:prstGeom>
          <a:solidFill>
            <a:srgbClr val="ffff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t Expected Return &amp; Risk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Expected Returns of alternative ass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eturn to Asset k if Event i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Probability Event i occu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35812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060560" y="3195720"/>
          <a:ext cx="7084800" cy="2641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0560" y="3195720"/>
                    <a:ext cx="708480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69E-6918-401F-981B-D7B244E137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ndom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quantity whose outcome is uncert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wo defining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Prob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any event E is a number between 0 and 1, p(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of the probabilities of any list of mutually exclusive and exhaustive events equals 1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lly exclusive = one and only one event can occur at any tim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ustive = one of the events must occur, jointly cover all possible outco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mpiri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ability - probability of an event occurring is estimated from data, usually in the form of a relative frequen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ability - probability of an event is deduced by reasoning about the structure of the problem itsel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je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ability - probability of an event is based on a personal assessment without reference to any particular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E9A-B995-49BF-98FC-E7A0D9F09B9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457200" y="2438280"/>
            <a:ext cx="8001000" cy="25909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ing ER and Risk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the previous table to calculate ER and variance (risk) for each asse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 calculations for Asset A bel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80880" y="2438280"/>
          <a:ext cx="8077320" cy="311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807732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"/>
          <p:cNvSpPr/>
          <p:nvPr/>
        </p:nvSpPr>
        <p:spPr>
          <a:xfrm>
            <a:off x="3124080" y="5562720"/>
            <a:ext cx="217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.5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9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46880" y="5562720"/>
            <a:ext cx="313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2.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91B-64B0-4093-87F3-D9AD8C2BA57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varianc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ce between two random vari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ed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gative covariance betwe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that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bove its mean its is likely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below its mean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ovariance of the two random variables is zero then on average the values of the two variables are unrelat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itive covariance betwe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that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bove its mean its is likely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bove its mean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ce of a random variable with itself, i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wn covari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equal to its vari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447920" y="2362320"/>
                <a:ext cx="6553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1219320" y="2133720"/>
            <a:ext cx="70866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932-4758-4680-97A2-9CFFBFB106F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between two random vari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sured 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takes on values between –1 and +1. Correlation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sure of how two random variables move together, i.e. correlation has no units associated with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rrelation of 0 means there is no straight-line (linear) relationship between the two variabl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ly positive (negative) correlations indicate an increasingly strong positive (negative) linear relationship between the variabl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correlation equals 1 (-1) there is a perfect positive (negative) linear relationship between the two vari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523880" y="2133720"/>
                <a:ext cx="64771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1219320" y="2057400"/>
            <a:ext cx="693396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4EF-85F8-45ED-B8DE-94247CFAB1D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folio Probability Calcula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consisting of two assets A and B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ested in A. Asset A has expected 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varia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sset B has expected retur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varia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correlation between the two returns 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rtfolio Expected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1-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rtfolio Vari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403360" y="3962520"/>
                <a:ext cx="4948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362320" y="4724280"/>
                <a:ext cx="48034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B49-7A8B-4CDA-B3DD-8E19C3E8143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am Questions on Probabili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that two or more events will happen concurrently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t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038120" y="19810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52D-738E-4EEB-A1F1-E4D4C929A33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am Question on Expected Value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2670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nalyst developed the following probability distribution of the rate of return for a common stoc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cenario            Probability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ate of retu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0.0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0.1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0.1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andard deviation of the rate of return is closest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2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26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28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4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alculate standard deviation must first calculate expected value, mean, of the rate of retur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[.25 x .08 + .5 x .12 + .25 x .16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1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variance as probability-weighted squared deviations of values from expected valu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.25[.08 - .12]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.5[.12 - .12]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.25[.16 - .12]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00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calculate standard deviation as square root of varianc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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SQRT(0.0008) 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0.0282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981080" y="5257440"/>
            <a:ext cx="2819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414680" y="1297080"/>
            <a:ext cx="4497480" cy="49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6E6-9959-420D-A5FA-8EF95A2A8F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676520" y="2286000"/>
            <a:ext cx="7010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Probability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bability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the probabilities of the possible outcomes of a random var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rete random 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take on at most a countable number of possible values, such as coin flip or rolling di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inuous random 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take on an uncountable (infinite) number of possible values, such as asset returns or temperat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bability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the probability that the random variable takes on a specific value: P(X = x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wo Key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Probability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≤  p(x) ≤ 1 because a probability lies between 0 and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of probabilities p(x) over all values of X equals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F0E-D713-45AA-9364-9B7D37755E0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rete Probability Distribution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rete Uniform Random 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uniform random variable X takes on a finite number of values, k, and each value has the same probability of occurring, i.e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/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1,2,…,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rnoulli random 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binary variable that takes on one of two values, usually 1 for success or 0 for failur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of a single coin flip as an example of a Bernoulli r.v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nomial random variabl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~ B(n, p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ed is the number of successe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rnoulli random trials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bability of success on any one Bernoulli tri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4 = 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(10, 0.5) think –“what’s probability of 4 heads in ten coin flips?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distribution for a Binomial random variable is given b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2743200" y="5486400"/>
                <a:ext cx="35053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D24-714D-42D8-9F85-A77C1B1DB99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572000" y="2362320"/>
            <a:ext cx="4040280" cy="20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form Distribu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1676520"/>
            <a:ext cx="420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1676520"/>
            <a:ext cx="4124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066680" y="2286000"/>
            <a:ext cx="2729520" cy="1621080"/>
            <a:chOff x="1066680" y="2286000"/>
            <a:chExt cx="2729520" cy="1621080"/>
          </a:xfrm>
        </p:grpSpPr>
        <p:sp>
          <p:nvSpPr>
            <p:cNvPr id="732" name=""/>
            <p:cNvSpPr/>
            <p:nvPr/>
          </p:nvSpPr>
          <p:spPr>
            <a:xfrm>
              <a:off x="1993680" y="3389040"/>
              <a:ext cx="83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6680" y="3101760"/>
              <a:ext cx="39312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07160" y="329724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26920" y="2770200"/>
              <a:ext cx="23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22040" y="3071880"/>
              <a:ext cx="23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93320" y="22860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55480" y="2576520"/>
              <a:ext cx="4269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179080" y="3376440"/>
              <a:ext cx="4482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36840" y="3101760"/>
              <a:ext cx="47412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05120" y="3101760"/>
              <a:ext cx="47412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84320" y="3071880"/>
              <a:ext cx="38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7920" y="2496960"/>
              <a:ext cx="56088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4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152080" y="30718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45320" y="3101760"/>
              <a:ext cx="3873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08840" y="3101760"/>
              <a:ext cx="3873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23520" y="3101760"/>
              <a:ext cx="2836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09120" y="4114800"/>
            <a:ext cx="4314600" cy="1595880"/>
            <a:chOff x="609120" y="4114800"/>
            <a:chExt cx="4314600" cy="1595880"/>
          </a:xfrm>
        </p:grpSpPr>
        <p:sp>
          <p:nvSpPr>
            <p:cNvPr id="749" name=""/>
            <p:cNvSpPr/>
            <p:nvPr/>
          </p:nvSpPr>
          <p:spPr>
            <a:xfrm>
              <a:off x="1793520" y="5218200"/>
              <a:ext cx="204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47640" y="5030280"/>
              <a:ext cx="3960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99840" y="5046480"/>
              <a:ext cx="63720" cy="5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1679400" y="4165560"/>
              <a:ext cx="71280" cy="143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63280" y="4171680"/>
              <a:ext cx="208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9120" y="4930560"/>
              <a:ext cx="40392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19320" y="4405320"/>
              <a:ext cx="39312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57880" y="512604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545920" y="4599000"/>
              <a:ext cx="23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59800" y="459900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722240" y="4900680"/>
              <a:ext cx="237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93160" y="41148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74480" y="4405320"/>
              <a:ext cx="4269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44480" y="5180040"/>
              <a:ext cx="4482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89000" y="4930560"/>
              <a:ext cx="47412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781000" y="4405320"/>
              <a:ext cx="3034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17800" y="4930560"/>
              <a:ext cx="47412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84160" y="4900680"/>
              <a:ext cx="384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697760" y="4325760"/>
              <a:ext cx="56088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4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574440" y="431316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51920" y="49006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137480" y="4930560"/>
              <a:ext cx="3873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30800" y="4930560"/>
              <a:ext cx="59292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69600" y="4930560"/>
              <a:ext cx="2836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59560" y="4265640"/>
              <a:ext cx="382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Fences"/>
                </a:rPr>
                <a:t>[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39720" y="4265640"/>
              <a:ext cx="4129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Fences"/>
                </a:rPr>
                <a:t>}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5281560" y="2862360"/>
            <a:ext cx="660600" cy="807840"/>
          </a:xfrm>
          <a:custGeom>
            <a:avLst/>
            <a:gdLst/>
            <a:ahLst/>
            <a:rect l="l" t="t" r="r" b="b"/>
            <a:pathLst>
              <a:path w="416" h="509">
                <a:moveTo>
                  <a:pt x="0" y="0"/>
                </a:moveTo>
                <a:lnTo>
                  <a:pt x="415" y="0"/>
                </a:lnTo>
                <a:lnTo>
                  <a:pt x="415" y="508"/>
                </a:lnTo>
                <a:lnTo>
                  <a:pt x="0" y="50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72120" y="2862360"/>
            <a:ext cx="657360" cy="807840"/>
          </a:xfrm>
          <a:custGeom>
            <a:avLst/>
            <a:gdLst/>
            <a:ahLst/>
            <a:rect l="l" t="t" r="r" b="b"/>
            <a:pathLst>
              <a:path w="414" h="509">
                <a:moveTo>
                  <a:pt x="0" y="0"/>
                </a:moveTo>
                <a:lnTo>
                  <a:pt x="413" y="0"/>
                </a:lnTo>
                <a:lnTo>
                  <a:pt x="413" y="508"/>
                </a:lnTo>
                <a:lnTo>
                  <a:pt x="0" y="50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9440" y="2862360"/>
            <a:ext cx="660600" cy="807840"/>
          </a:xfrm>
          <a:custGeom>
            <a:avLst/>
            <a:gdLst/>
            <a:ahLst/>
            <a:rect l="l" t="t" r="r" b="b"/>
            <a:pathLst>
              <a:path w="416" h="509">
                <a:moveTo>
                  <a:pt x="0" y="0"/>
                </a:moveTo>
                <a:lnTo>
                  <a:pt x="415" y="0"/>
                </a:lnTo>
                <a:lnTo>
                  <a:pt x="415" y="508"/>
                </a:lnTo>
                <a:lnTo>
                  <a:pt x="0" y="50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648560" y="2862360"/>
            <a:ext cx="658800" cy="807840"/>
          </a:xfrm>
          <a:custGeom>
            <a:avLst/>
            <a:gdLst/>
            <a:ahLst/>
            <a:rect l="l" t="t" r="r" b="b"/>
            <a:pathLst>
              <a:path w="415" h="509">
                <a:moveTo>
                  <a:pt x="0" y="0"/>
                </a:moveTo>
                <a:lnTo>
                  <a:pt x="414" y="0"/>
                </a:lnTo>
                <a:lnTo>
                  <a:pt x="414" y="508"/>
                </a:lnTo>
                <a:lnTo>
                  <a:pt x="0" y="50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218200" y="2705040"/>
            <a:ext cx="0" cy="95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21360" y="366876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21360" y="334476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21360" y="302256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121360" y="2698920"/>
            <a:ext cx="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224320" y="3668760"/>
            <a:ext cx="3141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5218200" y="36622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6008760" y="36622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94640" y="36622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7585200" y="36622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8372520" y="3662280"/>
            <a:ext cx="0" cy="11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01880" y="3441600"/>
            <a:ext cx="446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01880" y="3117960"/>
            <a:ext cx="446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01880" y="2795760"/>
            <a:ext cx="446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01880" y="2473200"/>
            <a:ext cx="446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424120" y="391176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214680" y="391176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002000" y="391176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792560" y="391176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7200" y="1066680"/>
            <a:ext cx="838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of distribution of a uniform rando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419720" y="1600200"/>
            <a:ext cx="4419360" cy="304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403-6A7A-4850-A610-B641270A1290}" type="slidenum">
              <a:t>29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Sample Spac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{Head, Tail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gency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ree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B6E-7D29-4202-A682-4AC9FE19DE45}" type="slidenum">
              <a:t>3</a:t>
            </a:fld>
          </a:p>
        </p:txBody>
      </p:sp>
    </p:spTree>
  </p:cSld>
  <p:transition advTm="240000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120680" y="2981160"/>
            <a:ext cx="6091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20680" y="3666960"/>
            <a:ext cx="6091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2680" y="2971800"/>
            <a:ext cx="555840" cy="1397160"/>
          </a:xfrm>
          <a:custGeom>
            <a:avLst/>
            <a:gdLst/>
            <a:ahLst/>
            <a:rect l="l" t="t" r="r" b="b"/>
            <a:pathLst>
              <a:path w="350" h="880">
                <a:moveTo>
                  <a:pt x="0" y="0"/>
                </a:moveTo>
                <a:lnTo>
                  <a:pt x="349" y="0"/>
                </a:lnTo>
                <a:lnTo>
                  <a:pt x="349" y="879"/>
                </a:lnTo>
                <a:lnTo>
                  <a:pt x="0" y="879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120680" y="2301840"/>
            <a:ext cx="6091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08080" y="4340160"/>
            <a:ext cx="554040" cy="7920"/>
          </a:xfrm>
          <a:custGeom>
            <a:avLst/>
            <a:gdLst/>
            <a:ahLst/>
            <a:rect l="l" t="t" r="r" b="b"/>
            <a:pathLst>
              <a:path w="349" h="5">
                <a:moveTo>
                  <a:pt x="0" y="0"/>
                </a:moveTo>
                <a:lnTo>
                  <a:pt x="348" y="0"/>
                </a:lnTo>
                <a:lnTo>
                  <a:pt x="348" y="4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660680" y="4278240"/>
            <a:ext cx="561960" cy="69840"/>
          </a:xfrm>
          <a:custGeom>
            <a:avLst/>
            <a:gdLst/>
            <a:ahLst/>
            <a:rect l="l" t="t" r="r" b="b"/>
            <a:pathLst>
              <a:path w="354" h="44">
                <a:moveTo>
                  <a:pt x="0" y="0"/>
                </a:moveTo>
                <a:lnTo>
                  <a:pt x="353" y="0"/>
                </a:lnTo>
                <a:lnTo>
                  <a:pt x="353" y="43"/>
                </a:lnTo>
                <a:lnTo>
                  <a:pt x="0" y="43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20840" y="4044960"/>
            <a:ext cx="554040" cy="303120"/>
          </a:xfrm>
          <a:custGeom>
            <a:avLst/>
            <a:gdLst/>
            <a:ahLst/>
            <a:rect l="l" t="t" r="r" b="b"/>
            <a:pathLst>
              <a:path w="349" h="191">
                <a:moveTo>
                  <a:pt x="0" y="0"/>
                </a:moveTo>
                <a:lnTo>
                  <a:pt x="348" y="0"/>
                </a:lnTo>
                <a:lnTo>
                  <a:pt x="348" y="190"/>
                </a:lnTo>
                <a:lnTo>
                  <a:pt x="0" y="190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73440" y="3548160"/>
            <a:ext cx="560160" cy="799920"/>
          </a:xfrm>
          <a:custGeom>
            <a:avLst/>
            <a:gdLst/>
            <a:ahLst/>
            <a:rect l="l" t="t" r="r" b="b"/>
            <a:pathLst>
              <a:path w="353" h="504">
                <a:moveTo>
                  <a:pt x="0" y="0"/>
                </a:moveTo>
                <a:lnTo>
                  <a:pt x="352" y="0"/>
                </a:lnTo>
                <a:lnTo>
                  <a:pt x="352" y="503"/>
                </a:lnTo>
                <a:lnTo>
                  <a:pt x="0" y="503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86200" y="2666880"/>
            <a:ext cx="560520" cy="1681200"/>
          </a:xfrm>
          <a:custGeom>
            <a:avLst/>
            <a:gdLst/>
            <a:ahLst/>
            <a:rect l="l" t="t" r="r" b="b"/>
            <a:pathLst>
              <a:path w="353" h="1059">
                <a:moveTo>
                  <a:pt x="0" y="0"/>
                </a:moveTo>
                <a:lnTo>
                  <a:pt x="352" y="0"/>
                </a:lnTo>
                <a:lnTo>
                  <a:pt x="352" y="1058"/>
                </a:lnTo>
                <a:lnTo>
                  <a:pt x="0" y="1058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444920" y="2951280"/>
            <a:ext cx="555840" cy="1396800"/>
          </a:xfrm>
          <a:custGeom>
            <a:avLst/>
            <a:gdLst/>
            <a:ahLst/>
            <a:rect l="l" t="t" r="r" b="b"/>
            <a:pathLst>
              <a:path w="350" h="880">
                <a:moveTo>
                  <a:pt x="0" y="0"/>
                </a:moveTo>
                <a:lnTo>
                  <a:pt x="349" y="0"/>
                </a:lnTo>
                <a:lnTo>
                  <a:pt x="349" y="879"/>
                </a:lnTo>
                <a:lnTo>
                  <a:pt x="0" y="879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98960" y="3548160"/>
            <a:ext cx="560520" cy="799920"/>
          </a:xfrm>
          <a:custGeom>
            <a:avLst/>
            <a:gdLst/>
            <a:ahLst/>
            <a:rect l="l" t="t" r="r" b="b"/>
            <a:pathLst>
              <a:path w="353" h="504">
                <a:moveTo>
                  <a:pt x="0" y="0"/>
                </a:moveTo>
                <a:lnTo>
                  <a:pt x="352" y="0"/>
                </a:lnTo>
                <a:lnTo>
                  <a:pt x="352" y="503"/>
                </a:lnTo>
                <a:lnTo>
                  <a:pt x="0" y="503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57680" y="4044960"/>
            <a:ext cx="555840" cy="303120"/>
          </a:xfrm>
          <a:custGeom>
            <a:avLst/>
            <a:gdLst/>
            <a:ahLst/>
            <a:rect l="l" t="t" r="r" b="b"/>
            <a:pathLst>
              <a:path w="350" h="191">
                <a:moveTo>
                  <a:pt x="0" y="0"/>
                </a:moveTo>
                <a:lnTo>
                  <a:pt x="349" y="0"/>
                </a:lnTo>
                <a:lnTo>
                  <a:pt x="349" y="190"/>
                </a:lnTo>
                <a:lnTo>
                  <a:pt x="0" y="190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11720" y="4278240"/>
            <a:ext cx="560520" cy="69840"/>
          </a:xfrm>
          <a:custGeom>
            <a:avLst/>
            <a:gdLst/>
            <a:ahLst/>
            <a:rect l="l" t="t" r="r" b="b"/>
            <a:pathLst>
              <a:path w="353" h="44">
                <a:moveTo>
                  <a:pt x="0" y="0"/>
                </a:moveTo>
                <a:lnTo>
                  <a:pt x="352" y="0"/>
                </a:lnTo>
                <a:lnTo>
                  <a:pt x="352" y="43"/>
                </a:lnTo>
                <a:lnTo>
                  <a:pt x="0" y="43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70800" y="4340160"/>
            <a:ext cx="555480" cy="7920"/>
          </a:xfrm>
          <a:custGeom>
            <a:avLst/>
            <a:gdLst/>
            <a:ahLst/>
            <a:rect l="l" t="t" r="r" b="b"/>
            <a:pathLst>
              <a:path w="350" h="5">
                <a:moveTo>
                  <a:pt x="0" y="0"/>
                </a:moveTo>
                <a:lnTo>
                  <a:pt x="349" y="0"/>
                </a:lnTo>
                <a:lnTo>
                  <a:pt x="349" y="4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00dfc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08080" y="2314440"/>
            <a:ext cx="0" cy="201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87480" y="43466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987480" y="366696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87480" y="298116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87480" y="23018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120680" y="4346640"/>
            <a:ext cx="6091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10808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66068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222084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277344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333216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88620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44492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99896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555768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11172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667080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7224840" y="4333680"/>
            <a:ext cx="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31920" y="4049640"/>
            <a:ext cx="5302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.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31920" y="3370320"/>
            <a:ext cx="5302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1920" y="2684520"/>
            <a:ext cx="5302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31920" y="2004840"/>
            <a:ext cx="5302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74680" y="4678200"/>
            <a:ext cx="4147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0" y="4678200"/>
            <a:ext cx="4147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98760" y="4678200"/>
            <a:ext cx="4147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511520" y="4678200"/>
            <a:ext cx="4147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24640" y="4678200"/>
            <a:ext cx="4147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618240" y="4678200"/>
            <a:ext cx="64764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91520" y="4081320"/>
            <a:ext cx="46044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2600" y="1539720"/>
            <a:ext cx="10195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omial Dist’n – Coin Flip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32160" y="2951280"/>
            <a:ext cx="555480" cy="1396800"/>
          </a:xfrm>
          <a:custGeom>
            <a:avLst/>
            <a:gdLst/>
            <a:ahLst/>
            <a:rect l="l" t="t" r="r" b="b"/>
            <a:pathLst>
              <a:path w="350" h="880">
                <a:moveTo>
                  <a:pt x="0" y="0"/>
                </a:moveTo>
                <a:lnTo>
                  <a:pt x="349" y="0"/>
                </a:lnTo>
                <a:lnTo>
                  <a:pt x="349" y="879"/>
                </a:lnTo>
                <a:lnTo>
                  <a:pt x="0" y="879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432880" y="1604880"/>
            <a:ext cx="32050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 = 10      p = .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91320" y="1600200"/>
            <a:ext cx="3095640" cy="57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bility of exactly 4 heads in 10 tosses = Bar He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05040" y="3097080"/>
            <a:ext cx="0" cy="122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581280" y="2133360"/>
            <a:ext cx="2210040" cy="1592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143000" y="3505320"/>
            <a:ext cx="6553080" cy="2328120"/>
            <a:chOff x="1143000" y="3505320"/>
            <a:chExt cx="6553080" cy="2328120"/>
          </a:xfrm>
        </p:grpSpPr>
        <p:sp>
          <p:nvSpPr>
            <p:cNvPr id="851" name=""/>
            <p:cNvSpPr/>
            <p:nvPr/>
          </p:nvSpPr>
          <p:spPr>
            <a:xfrm>
              <a:off x="2209680" y="4038480"/>
              <a:ext cx="554040" cy="302760"/>
            </a:xfrm>
            <a:custGeom>
              <a:avLst/>
              <a:gdLst/>
              <a:ahLst/>
              <a:rect l="l" t="t" r="r" b="b"/>
              <a:pathLst>
                <a:path w="349" h="191">
                  <a:moveTo>
                    <a:pt x="0" y="0"/>
                  </a:moveTo>
                  <a:lnTo>
                    <a:pt x="348" y="0"/>
                  </a:lnTo>
                  <a:lnTo>
                    <a:pt x="348" y="190"/>
                  </a:lnTo>
                  <a:lnTo>
                    <a:pt x="0" y="190"/>
                  </a:lnTo>
                  <a:lnTo>
                    <a:pt x="0" y="0"/>
                  </a:lnTo>
                </a:path>
              </a:pathLst>
            </a:custGeom>
            <a:solidFill>
              <a:srgbClr val="ffcc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76160" y="4267080"/>
              <a:ext cx="561960" cy="69480"/>
            </a:xfrm>
            <a:custGeom>
              <a:avLst/>
              <a:gdLst/>
              <a:ahLst/>
              <a:rect l="l" t="t" r="r" b="b"/>
              <a:pathLst>
                <a:path w="354" h="44">
                  <a:moveTo>
                    <a:pt x="0" y="0"/>
                  </a:moveTo>
                  <a:lnTo>
                    <a:pt x="353" y="0"/>
                  </a:lnTo>
                  <a:lnTo>
                    <a:pt x="353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ffcc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43200" y="3505320"/>
              <a:ext cx="609480" cy="838080"/>
            </a:xfrm>
            <a:custGeom>
              <a:avLst/>
              <a:gdLst/>
              <a:ahLst/>
              <a:rect l="l" t="t" r="r" b="b"/>
              <a:pathLst>
                <a:path w="353" h="504">
                  <a:moveTo>
                    <a:pt x="0" y="0"/>
                  </a:moveTo>
                  <a:lnTo>
                    <a:pt x="352" y="0"/>
                  </a:lnTo>
                  <a:lnTo>
                    <a:pt x="352" y="503"/>
                  </a:lnTo>
                  <a:lnTo>
                    <a:pt x="0" y="503"/>
                  </a:lnTo>
                  <a:lnTo>
                    <a:pt x="0" y="0"/>
                  </a:lnTo>
                </a:path>
              </a:pathLst>
            </a:custGeom>
            <a:solidFill>
              <a:srgbClr val="ffcc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267080" y="5257800"/>
              <a:ext cx="3429000" cy="57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bability of 4 heads or fewer in 10 tosses = Sum of Bar Heigh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14600" y="4572000"/>
              <a:ext cx="175248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16200000">
              <a:off x="2438280" y="312336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25A-9D19-45C2-B658-B4706E67C283}" type="slidenum">
              <a:t>30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omial Probability Dist’n Func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3808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= x | n,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probability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 =3 in previous example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‘success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{ Pr(Price up)=.7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‘successes’ in </a:t>
            </a:r>
            <a:r>
              <a:rPr b="0" i="1" lang="en-US" sz="2400" spc="-1" strike="noStrike">
                <a:solidFill>
                  <a:srgbClr val="cc6600"/>
                </a:solidFill>
                <a:latin typeface="Arial"/>
              </a:rPr>
              <a:t>sam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1100160" y="1285920"/>
            <a:ext cx="6934680" cy="1195560"/>
            <a:chOff x="1100160" y="1285920"/>
            <a:chExt cx="6934680" cy="1195560"/>
          </a:xfrm>
        </p:grpSpPr>
        <p:sp>
          <p:nvSpPr>
            <p:cNvPr id="860" name=""/>
            <p:cNvSpPr/>
            <p:nvPr/>
          </p:nvSpPr>
          <p:spPr>
            <a:xfrm>
              <a:off x="4156200" y="190332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00160" y="16002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558800" y="160020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24880" y="160020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58760" y="160020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34960" y="160020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14560" y="1285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71240" y="190512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98640" y="19051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250960" y="190512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03560" y="160020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60960" y="160020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70320" y="153036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353360" y="1530360"/>
              <a:ext cx="3369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713360" y="1530360"/>
              <a:ext cx="321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85280" y="160020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656080" y="1600200"/>
              <a:ext cx="286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81240" y="1600200"/>
              <a:ext cx="294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82280" y="160020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70520" y="1285920"/>
              <a:ext cx="294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313160" y="1905120"/>
              <a:ext cx="294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52480" y="190512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486040" y="190512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626080" y="1905120"/>
              <a:ext cx="294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63640" y="160020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08280" y="160020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33200" y="1600200"/>
              <a:ext cx="50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66600" y="1600200"/>
              <a:ext cx="50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73040" y="190512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82680" y="1600200"/>
              <a:ext cx="31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66120" y="1530360"/>
              <a:ext cx="2743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86040" y="160020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E4A-548C-435F-ACB1-BAC24CBB0EAC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4572000" y="4419720"/>
            <a:ext cx="384192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52920" y="1500120"/>
            <a:ext cx="3841920" cy="198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omial Dist’n - Characteristic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410080" y="137160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5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10080" y="419112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5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30360" y="147492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7240" y="3811680"/>
            <a:ext cx="357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1771560" y="4858920"/>
            <a:ext cx="46080" cy="42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830240" y="4875120"/>
            <a:ext cx="7164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917720" y="4586040"/>
            <a:ext cx="82440" cy="45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13120" y="4592520"/>
            <a:ext cx="163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98400" y="207000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000" y="4529160"/>
            <a:ext cx="42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66600" y="2286000"/>
            <a:ext cx="32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23480" y="4745160"/>
            <a:ext cx="32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01640" y="20700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060640" y="207000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47680" y="2070000"/>
            <a:ext cx="63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935000" y="4529160"/>
            <a:ext cx="63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85640" y="45291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23640" y="207000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68240" y="207000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80520" y="452916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907720" y="452916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87120" y="207000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383920" y="207000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490120" y="452916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433320" y="452916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611080" y="45291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35680" y="2633760"/>
            <a:ext cx="290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35680" y="2328840"/>
            <a:ext cx="290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035680" y="2027160"/>
            <a:ext cx="290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205740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16640" y="2451240"/>
            <a:ext cx="485640" cy="48564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00840" y="281304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88280" y="290520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029200" y="203364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962600" y="2935440"/>
            <a:ext cx="6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62600" y="2633760"/>
            <a:ext cx="6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962600" y="2328840"/>
            <a:ext cx="6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62600" y="2027160"/>
            <a:ext cx="6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35680" y="2935440"/>
            <a:ext cx="290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029200" y="292896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5516640" y="292896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6000840" y="292896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488280" y="292896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975360" y="292896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7459560" y="292896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7947000" y="292896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67320" y="2760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67320" y="24591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67320" y="21542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67320" y="18525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118120" y="31035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605560" y="31035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089760" y="31035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576840" y="31035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064280" y="31035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550280" y="31035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61400" y="27608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759200" y="162396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091120" y="5505480"/>
            <a:ext cx="290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091120" y="5200560"/>
            <a:ext cx="290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91120" y="4897440"/>
            <a:ext cx="290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084640" y="4903920"/>
            <a:ext cx="0" cy="89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8040" y="5807160"/>
            <a:ext cx="6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018040" y="5505480"/>
            <a:ext cx="6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018040" y="5200560"/>
            <a:ext cx="6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018040" y="4897440"/>
            <a:ext cx="6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91120" y="5807160"/>
            <a:ext cx="290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5084640" y="580068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572080" y="580068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058080" y="580068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545160" y="580068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34040" y="580068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7518240" y="580068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8005680" y="580068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622760" y="5630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649-AA8C-4B4C-906D-8582F3ABAD5B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762120" y="30481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2120" y="685800"/>
            <a:ext cx="0" cy="5715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133720" y="685800"/>
            <a:ext cx="0" cy="5715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685800"/>
            <a:ext cx="0" cy="5715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38680" y="0"/>
            <a:ext cx="0" cy="6400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83400" y="632448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755000" y="632448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55200" y="632448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260320" y="632448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6520" y="312408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=$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934320" y="228600"/>
            <a:ext cx="19810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6120" y="2286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3960" y="609480"/>
            <a:ext cx="193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are Price g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 or down by $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wee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934320" y="1600200"/>
            <a:ext cx="20127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babilit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 Price g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by $10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% each week. i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3124080"/>
            <a:ext cx="19429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babilit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 Price go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 by $10 is 75% each wee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724280"/>
            <a:ext cx="19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babilit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 Price g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 this week is NOT affected by what happened bef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1432800" y="2057400"/>
            <a:ext cx="1746360" cy="1297080"/>
            <a:chOff x="1432800" y="2057400"/>
            <a:chExt cx="1746360" cy="1297080"/>
          </a:xfrm>
        </p:grpSpPr>
        <p:sp>
          <p:nvSpPr>
            <p:cNvPr id="1004" name=""/>
            <p:cNvSpPr/>
            <p:nvPr/>
          </p:nvSpPr>
          <p:spPr>
            <a:xfrm>
              <a:off x="2363040" y="205740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$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1432800" y="2057400"/>
              <a:ext cx="1691280" cy="1297080"/>
              <a:chOff x="1432800" y="2057400"/>
              <a:chExt cx="1691280" cy="1297080"/>
            </a:xfrm>
          </p:grpSpPr>
          <p:sp>
            <p:nvSpPr>
              <p:cNvPr id="1006" name=""/>
              <p:cNvSpPr/>
              <p:nvPr/>
            </p:nvSpPr>
            <p:spPr>
              <a:xfrm>
                <a:off x="2362320" y="2057400"/>
                <a:ext cx="76176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1442880" y="2362320"/>
                <a:ext cx="919440" cy="9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432800" y="2678040"/>
                <a:ext cx="40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"/>
          <p:cNvGrpSpPr/>
          <p:nvPr/>
        </p:nvGrpSpPr>
        <p:grpSpPr>
          <a:xfrm>
            <a:off x="3129120" y="2362320"/>
            <a:ext cx="1823760" cy="1295280"/>
            <a:chOff x="3129120" y="2362320"/>
            <a:chExt cx="1823760" cy="1295280"/>
          </a:xfrm>
        </p:grpSpPr>
        <p:sp>
          <p:nvSpPr>
            <p:cNvPr id="1010" name=""/>
            <p:cNvSpPr/>
            <p:nvPr/>
          </p:nvSpPr>
          <p:spPr>
            <a:xfrm>
              <a:off x="3129120" y="2362320"/>
              <a:ext cx="9856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19480" y="3048120"/>
              <a:ext cx="833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15520" y="304812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$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01120" y="281952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46840" y="237348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 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447920" y="3352680"/>
            <a:ext cx="1676160" cy="1297800"/>
            <a:chOff x="1447920" y="3352680"/>
            <a:chExt cx="1676160" cy="1297800"/>
          </a:xfrm>
        </p:grpSpPr>
        <p:sp>
          <p:nvSpPr>
            <p:cNvPr id="1016" name=""/>
            <p:cNvSpPr/>
            <p:nvPr/>
          </p:nvSpPr>
          <p:spPr>
            <a:xfrm>
              <a:off x="1447920" y="3352680"/>
              <a:ext cx="9144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62320" y="4038480"/>
              <a:ext cx="76176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63040" y="403848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$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48640" y="380988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62680" y="4343400"/>
              <a:ext cx="6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 = 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3124080" y="1066680"/>
            <a:ext cx="1863000" cy="1297080"/>
            <a:chOff x="3124080" y="1066680"/>
            <a:chExt cx="1863000" cy="1297080"/>
          </a:xfrm>
        </p:grpSpPr>
        <p:sp>
          <p:nvSpPr>
            <p:cNvPr id="1022" name=""/>
            <p:cNvSpPr/>
            <p:nvPr/>
          </p:nvSpPr>
          <p:spPr>
            <a:xfrm>
              <a:off x="4119480" y="1066680"/>
              <a:ext cx="8334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3124080" y="1371600"/>
              <a:ext cx="995400" cy="9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15520" y="106668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$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77440" y="160020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114440" y="137160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 = .56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3124080" y="3352680"/>
            <a:ext cx="1773360" cy="992160"/>
            <a:chOff x="3124080" y="3352680"/>
            <a:chExt cx="1773360" cy="992160"/>
          </a:xfrm>
        </p:grpSpPr>
        <p:sp>
          <p:nvSpPr>
            <p:cNvPr id="1028" name=""/>
            <p:cNvSpPr/>
            <p:nvPr/>
          </p:nvSpPr>
          <p:spPr>
            <a:xfrm flipV="1">
              <a:off x="3124080" y="3429000"/>
              <a:ext cx="99072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201120" y="365760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14800" y="335268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 = .3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3129120" y="4343400"/>
            <a:ext cx="1857960" cy="1297800"/>
            <a:chOff x="3129120" y="4343400"/>
            <a:chExt cx="1857960" cy="1297800"/>
          </a:xfrm>
        </p:grpSpPr>
        <p:sp>
          <p:nvSpPr>
            <p:cNvPr id="1032" name=""/>
            <p:cNvSpPr/>
            <p:nvPr/>
          </p:nvSpPr>
          <p:spPr>
            <a:xfrm>
              <a:off x="3129120" y="4343400"/>
              <a:ext cx="9903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19480" y="5029200"/>
              <a:ext cx="833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15520" y="50292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$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85280" y="481176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14440" y="53341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 = .06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4877640" y="380880"/>
            <a:ext cx="1861920" cy="2286000"/>
            <a:chOff x="4877640" y="380880"/>
            <a:chExt cx="1861920" cy="2286000"/>
          </a:xfrm>
        </p:grpSpPr>
        <p:sp>
          <p:nvSpPr>
            <p:cNvPr id="1038" name=""/>
            <p:cNvSpPr/>
            <p:nvPr/>
          </p:nvSpPr>
          <p:spPr>
            <a:xfrm>
              <a:off x="5872320" y="2057400"/>
              <a:ext cx="8334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67280" y="380880"/>
              <a:ext cx="83844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4952880" y="68544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52880" y="1371600"/>
              <a:ext cx="919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68000" y="38088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$1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68000" y="2057400"/>
              <a:ext cx="8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$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77640" y="76212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877640" y="167652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66920" y="68580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 = .42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4937760" y="2361960"/>
            <a:ext cx="1801800" cy="2286360"/>
            <a:chOff x="4937760" y="2361960"/>
            <a:chExt cx="1801800" cy="2286360"/>
          </a:xfrm>
        </p:grpSpPr>
        <p:sp>
          <p:nvSpPr>
            <p:cNvPr id="1048" name=""/>
            <p:cNvSpPr/>
            <p:nvPr/>
          </p:nvSpPr>
          <p:spPr>
            <a:xfrm flipV="1">
              <a:off x="4952880" y="2361960"/>
              <a:ext cx="919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952880" y="3352680"/>
              <a:ext cx="9144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72320" y="4038480"/>
              <a:ext cx="8334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68000" y="403848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$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937760" y="267804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937760" y="374508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66920" y="23623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 = .42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4937760" y="4343400"/>
            <a:ext cx="1801800" cy="1830960"/>
            <a:chOff x="4937760" y="4343400"/>
            <a:chExt cx="1801800" cy="1830960"/>
          </a:xfrm>
        </p:grpSpPr>
        <p:sp>
          <p:nvSpPr>
            <p:cNvPr id="1056" name=""/>
            <p:cNvSpPr/>
            <p:nvPr/>
          </p:nvSpPr>
          <p:spPr>
            <a:xfrm flipV="1">
              <a:off x="4952880" y="4343400"/>
              <a:ext cx="9194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952880" y="5334120"/>
              <a:ext cx="914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867280" y="5562720"/>
              <a:ext cx="8384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68000" y="556272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=$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37760" y="465948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37760" y="557388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66920" y="434340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 = .14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66920" y="58672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 = .0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523880" y="2361960"/>
            <a:ext cx="2590920" cy="2057760"/>
            <a:chOff x="1523880" y="2361960"/>
            <a:chExt cx="2590920" cy="2057760"/>
          </a:xfrm>
        </p:grpSpPr>
        <p:sp>
          <p:nvSpPr>
            <p:cNvPr id="1065" name=""/>
            <p:cNvSpPr/>
            <p:nvPr/>
          </p:nvSpPr>
          <p:spPr>
            <a:xfrm flipV="1">
              <a:off x="1523880" y="2361960"/>
              <a:ext cx="1143000" cy="990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66880" y="2362320"/>
              <a:ext cx="1447920" cy="990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23880" y="3352680"/>
              <a:ext cx="1143000" cy="10670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666880" y="3429000"/>
              <a:ext cx="1447920" cy="9907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977120" y="3200400"/>
              <a:ext cx="17182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 = 2(.25)(.7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1523520" y="1371240"/>
            <a:ext cx="4343760" cy="3048480"/>
            <a:chOff x="1523520" y="1371240"/>
            <a:chExt cx="4343760" cy="3048480"/>
          </a:xfrm>
        </p:grpSpPr>
        <p:sp>
          <p:nvSpPr>
            <p:cNvPr id="1071" name=""/>
            <p:cNvSpPr/>
            <p:nvPr/>
          </p:nvSpPr>
          <p:spPr>
            <a:xfrm flipV="1">
              <a:off x="4495680" y="2361960"/>
              <a:ext cx="1295640" cy="990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1523520" y="1371240"/>
              <a:ext cx="4343760" cy="3048480"/>
              <a:chOff x="1523520" y="1371240"/>
              <a:chExt cx="4343760" cy="3048480"/>
            </a:xfrm>
          </p:grpSpPr>
          <p:sp>
            <p:nvSpPr>
              <p:cNvPr id="1073" name=""/>
              <p:cNvSpPr/>
              <p:nvPr/>
            </p:nvSpPr>
            <p:spPr>
              <a:xfrm flipV="1">
                <a:off x="1523880" y="2438280"/>
                <a:ext cx="1676520" cy="91440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1523880" y="1371240"/>
                <a:ext cx="2971800" cy="19810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3200400" y="2438280"/>
                <a:ext cx="1295280" cy="91440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>
                <a:off x="1523520" y="3352680"/>
                <a:ext cx="1143000" cy="10670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2666880" y="3429000"/>
                <a:ext cx="1905120" cy="99072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95680" y="1371600"/>
                <a:ext cx="1295640" cy="99072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572000" y="2590920"/>
                <a:ext cx="1295280" cy="83808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269880" y="2133720"/>
                <a:ext cx="2209320" cy="39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 = 3(.75)(.75)(.25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1" name=""/>
          <p:cNvSpPr/>
          <p:nvPr/>
        </p:nvSpPr>
        <p:spPr>
          <a:xfrm>
            <a:off x="1222920" y="22860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tion of Share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CDB-879E-43B4-B5C7-CDDD8441D20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ontinuous, symmetric probability distribution that is completely described by two parameters: its mean, μ, and its variance, σ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neral Normal random var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~ N(μ, σ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rmal distribution is said to be bell-shaped with the mean showing its central location and the variance showing its “spread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near combination of two or more Normal random variables is also normally distrib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Normal distribu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~ N(0, 1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ormal distribution with me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=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vari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533-B57D-43AD-A04F-AB373B5FAA1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Varying Parameters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763800" y="3457440"/>
            <a:ext cx="2271960" cy="1814760"/>
          </a:xfrm>
          <a:custGeom>
            <a:avLst/>
            <a:gdLst/>
            <a:ahLst/>
            <a:rect l="l" t="t" r="r" b="b"/>
            <a:pathLst>
              <a:path w="1431" h="1143">
                <a:moveTo>
                  <a:pt x="1430" y="1142"/>
                </a:moveTo>
                <a:lnTo>
                  <a:pt x="1279" y="1128"/>
                </a:lnTo>
                <a:lnTo>
                  <a:pt x="1205" y="1116"/>
                </a:lnTo>
                <a:lnTo>
                  <a:pt x="1128" y="1097"/>
                </a:lnTo>
                <a:lnTo>
                  <a:pt x="1054" y="1072"/>
                </a:lnTo>
                <a:lnTo>
                  <a:pt x="978" y="1035"/>
                </a:lnTo>
                <a:lnTo>
                  <a:pt x="903" y="990"/>
                </a:lnTo>
                <a:lnTo>
                  <a:pt x="753" y="856"/>
                </a:lnTo>
                <a:lnTo>
                  <a:pt x="602" y="670"/>
                </a:lnTo>
                <a:lnTo>
                  <a:pt x="452" y="445"/>
                </a:lnTo>
                <a:lnTo>
                  <a:pt x="377" y="332"/>
                </a:lnTo>
                <a:lnTo>
                  <a:pt x="301" y="224"/>
                </a:lnTo>
                <a:lnTo>
                  <a:pt x="227" y="132"/>
                </a:lnTo>
                <a:lnTo>
                  <a:pt x="150" y="59"/>
                </a:lnTo>
                <a:lnTo>
                  <a:pt x="76" y="14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494000" y="3457440"/>
            <a:ext cx="2271600" cy="1814760"/>
          </a:xfrm>
          <a:custGeom>
            <a:avLst/>
            <a:gdLst/>
            <a:ahLst/>
            <a:rect l="l" t="t" r="r" b="b"/>
            <a:pathLst>
              <a:path w="1431" h="1143">
                <a:moveTo>
                  <a:pt x="0" y="1142"/>
                </a:moveTo>
                <a:lnTo>
                  <a:pt x="150" y="1128"/>
                </a:lnTo>
                <a:lnTo>
                  <a:pt x="227" y="1116"/>
                </a:lnTo>
                <a:lnTo>
                  <a:pt x="301" y="1097"/>
                </a:lnTo>
                <a:lnTo>
                  <a:pt x="375" y="1072"/>
                </a:lnTo>
                <a:lnTo>
                  <a:pt x="452" y="1035"/>
                </a:lnTo>
                <a:lnTo>
                  <a:pt x="526" y="990"/>
                </a:lnTo>
                <a:lnTo>
                  <a:pt x="676" y="856"/>
                </a:lnTo>
                <a:lnTo>
                  <a:pt x="827" y="670"/>
                </a:lnTo>
                <a:lnTo>
                  <a:pt x="978" y="445"/>
                </a:lnTo>
                <a:lnTo>
                  <a:pt x="1054" y="332"/>
                </a:lnTo>
                <a:lnTo>
                  <a:pt x="1128" y="224"/>
                </a:lnTo>
                <a:lnTo>
                  <a:pt x="1205" y="132"/>
                </a:lnTo>
                <a:lnTo>
                  <a:pt x="1279" y="59"/>
                </a:lnTo>
                <a:lnTo>
                  <a:pt x="1355" y="14"/>
                </a:lnTo>
                <a:lnTo>
                  <a:pt x="143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421240" y="3457440"/>
            <a:ext cx="2271960" cy="1814760"/>
          </a:xfrm>
          <a:custGeom>
            <a:avLst/>
            <a:gdLst/>
            <a:ahLst/>
            <a:rect l="l" t="t" r="r" b="b"/>
            <a:pathLst>
              <a:path w="1431" h="1143">
                <a:moveTo>
                  <a:pt x="1430" y="1142"/>
                </a:moveTo>
                <a:lnTo>
                  <a:pt x="1279" y="1128"/>
                </a:lnTo>
                <a:lnTo>
                  <a:pt x="1203" y="1116"/>
                </a:lnTo>
                <a:lnTo>
                  <a:pt x="1128" y="1097"/>
                </a:lnTo>
                <a:lnTo>
                  <a:pt x="1052" y="1072"/>
                </a:lnTo>
                <a:lnTo>
                  <a:pt x="978" y="1035"/>
                </a:lnTo>
                <a:lnTo>
                  <a:pt x="901" y="990"/>
                </a:lnTo>
                <a:lnTo>
                  <a:pt x="751" y="856"/>
                </a:lnTo>
                <a:lnTo>
                  <a:pt x="602" y="670"/>
                </a:lnTo>
                <a:lnTo>
                  <a:pt x="452" y="445"/>
                </a:lnTo>
                <a:lnTo>
                  <a:pt x="375" y="332"/>
                </a:lnTo>
                <a:lnTo>
                  <a:pt x="301" y="224"/>
                </a:lnTo>
                <a:lnTo>
                  <a:pt x="225" y="132"/>
                </a:lnTo>
                <a:lnTo>
                  <a:pt x="150" y="59"/>
                </a:lnTo>
                <a:lnTo>
                  <a:pt x="74" y="14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151080" y="3457440"/>
            <a:ext cx="2271960" cy="1814760"/>
          </a:xfrm>
          <a:custGeom>
            <a:avLst/>
            <a:gdLst/>
            <a:ahLst/>
            <a:rect l="l" t="t" r="r" b="b"/>
            <a:pathLst>
              <a:path w="1431" h="1143">
                <a:moveTo>
                  <a:pt x="0" y="1142"/>
                </a:moveTo>
                <a:lnTo>
                  <a:pt x="150" y="1128"/>
                </a:lnTo>
                <a:lnTo>
                  <a:pt x="225" y="1116"/>
                </a:lnTo>
                <a:lnTo>
                  <a:pt x="299" y="1097"/>
                </a:lnTo>
                <a:lnTo>
                  <a:pt x="375" y="1072"/>
                </a:lnTo>
                <a:lnTo>
                  <a:pt x="452" y="1035"/>
                </a:lnTo>
                <a:lnTo>
                  <a:pt x="526" y="990"/>
                </a:lnTo>
                <a:lnTo>
                  <a:pt x="677" y="856"/>
                </a:lnTo>
                <a:lnTo>
                  <a:pt x="827" y="670"/>
                </a:lnTo>
                <a:lnTo>
                  <a:pt x="978" y="445"/>
                </a:lnTo>
                <a:lnTo>
                  <a:pt x="1052" y="332"/>
                </a:lnTo>
                <a:lnTo>
                  <a:pt x="1128" y="224"/>
                </a:lnTo>
                <a:lnTo>
                  <a:pt x="1203" y="132"/>
                </a:lnTo>
                <a:lnTo>
                  <a:pt x="1279" y="59"/>
                </a:lnTo>
                <a:lnTo>
                  <a:pt x="1353" y="14"/>
                </a:lnTo>
                <a:lnTo>
                  <a:pt x="1430" y="0"/>
                </a:lnTo>
              </a:path>
            </a:pathLst>
          </a:custGeom>
          <a:noFill/>
          <a:ln cap="rnd"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016840" y="500868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930960" y="199224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292440" y="375444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425320" y="375444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23800" y="263520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21240" y="3502080"/>
            <a:ext cx="0" cy="1755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63800" y="2765520"/>
            <a:ext cx="0" cy="249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63800" y="2752560"/>
            <a:ext cx="1025640" cy="2519640"/>
          </a:xfrm>
          <a:custGeom>
            <a:avLst/>
            <a:gdLst/>
            <a:ahLst/>
            <a:rect l="l" t="t" r="r" b="b"/>
            <a:pathLst>
              <a:path w="646" h="1587">
                <a:moveTo>
                  <a:pt x="645" y="1586"/>
                </a:moveTo>
                <a:lnTo>
                  <a:pt x="577" y="1568"/>
                </a:lnTo>
                <a:lnTo>
                  <a:pt x="544" y="1549"/>
                </a:lnTo>
                <a:lnTo>
                  <a:pt x="509" y="1525"/>
                </a:lnTo>
                <a:lnTo>
                  <a:pt x="476" y="1487"/>
                </a:lnTo>
                <a:lnTo>
                  <a:pt x="441" y="1438"/>
                </a:lnTo>
                <a:lnTo>
                  <a:pt x="408" y="1374"/>
                </a:lnTo>
                <a:lnTo>
                  <a:pt x="340" y="1188"/>
                </a:lnTo>
                <a:lnTo>
                  <a:pt x="272" y="930"/>
                </a:lnTo>
                <a:lnTo>
                  <a:pt x="204" y="619"/>
                </a:lnTo>
                <a:lnTo>
                  <a:pt x="171" y="460"/>
                </a:lnTo>
                <a:lnTo>
                  <a:pt x="136" y="311"/>
                </a:lnTo>
                <a:lnTo>
                  <a:pt x="103" y="184"/>
                </a:lnTo>
                <a:lnTo>
                  <a:pt x="68" y="85"/>
                </a:lnTo>
                <a:lnTo>
                  <a:pt x="35" y="2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738520" y="2752560"/>
            <a:ext cx="1027080" cy="2519640"/>
          </a:xfrm>
          <a:custGeom>
            <a:avLst/>
            <a:gdLst/>
            <a:ahLst/>
            <a:rect l="l" t="t" r="r" b="b"/>
            <a:pathLst>
              <a:path w="647" h="1587">
                <a:moveTo>
                  <a:pt x="0" y="1586"/>
                </a:moveTo>
                <a:lnTo>
                  <a:pt x="68" y="1568"/>
                </a:lnTo>
                <a:lnTo>
                  <a:pt x="101" y="1549"/>
                </a:lnTo>
                <a:lnTo>
                  <a:pt x="136" y="1525"/>
                </a:lnTo>
                <a:lnTo>
                  <a:pt x="169" y="1487"/>
                </a:lnTo>
                <a:lnTo>
                  <a:pt x="204" y="1438"/>
                </a:lnTo>
                <a:lnTo>
                  <a:pt x="237" y="1374"/>
                </a:lnTo>
                <a:lnTo>
                  <a:pt x="305" y="1188"/>
                </a:lnTo>
                <a:lnTo>
                  <a:pt x="373" y="930"/>
                </a:lnTo>
                <a:lnTo>
                  <a:pt x="441" y="619"/>
                </a:lnTo>
                <a:lnTo>
                  <a:pt x="476" y="460"/>
                </a:lnTo>
                <a:lnTo>
                  <a:pt x="509" y="311"/>
                </a:lnTo>
                <a:lnTo>
                  <a:pt x="545" y="184"/>
                </a:lnTo>
                <a:lnTo>
                  <a:pt x="578" y="85"/>
                </a:lnTo>
                <a:lnTo>
                  <a:pt x="613" y="21"/>
                </a:lnTo>
                <a:lnTo>
                  <a:pt x="646" y="0"/>
                </a:lnTo>
              </a:path>
            </a:pathLst>
          </a:custGeom>
          <a:noFill/>
          <a:ln cap="rnd"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371600" y="2666880"/>
            <a:ext cx="6458040" cy="2605320"/>
          </a:xfrm>
          <a:custGeom>
            <a:avLst/>
            <a:gdLst/>
            <a:ahLst/>
            <a:rect l="l" t="t" r="r" b="b"/>
            <a:pathLst>
              <a:path w="4068" h="1641">
                <a:moveTo>
                  <a:pt x="0" y="0"/>
                </a:moveTo>
                <a:lnTo>
                  <a:pt x="0" y="1640"/>
                </a:lnTo>
                <a:lnTo>
                  <a:pt x="4067" y="16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03200" y="266688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303200" y="292896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303200" y="318780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303200" y="344952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03200" y="370836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303200" y="397044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303200" y="422928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03200" y="449100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303200" y="474984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03200" y="5011560"/>
            <a:ext cx="5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82784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8344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53400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88960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4340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9900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95280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0840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66220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17800" y="5283360"/>
            <a:ext cx="0" cy="792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06840" y="52736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73280" y="295416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682360" y="2192400"/>
            <a:ext cx="21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739-0877-4800-90D7-53AAE7E171DE}" type="slidenum">
              <a:t>35</a:t>
            </a:fld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neral Normal random variabl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~ N(μ, σ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standardized to a Standard Normal random variabl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ing variable has mean zero and variance equal to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lculating probabi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 normal random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~ N(μ, 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aking on a range of specified values, s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lt; X &lt;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irectly as the area under the normal curve using the cumulative Normal distribution function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720" indent="0" algn="ctr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a &lt; X &lt; b| μ, σ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X &lt; b| μ, σ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 N( X &lt; a| μ, σ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cc33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be able to show what this looks like using a diagram of the Normal distrib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971800" y="2438280"/>
                <a:ext cx="20574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e>
                    </m: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D9D-20E5-4903-AF8A-5520E888B5E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228840" y="4722840"/>
            <a:ext cx="251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%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228840" y="5249880"/>
            <a:ext cx="251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228840" y="5800680"/>
            <a:ext cx="251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%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960800" y="3726000"/>
            <a:ext cx="376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6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.5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72000" y="2225520"/>
            <a:ext cx="0" cy="144000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876240" y="2203560"/>
            <a:ext cx="7392960" cy="1269720"/>
            <a:chOff x="876240" y="2203560"/>
            <a:chExt cx="7392960" cy="1269720"/>
          </a:xfrm>
        </p:grpSpPr>
        <p:sp>
          <p:nvSpPr>
            <p:cNvPr id="1132" name=""/>
            <p:cNvSpPr/>
            <p:nvPr/>
          </p:nvSpPr>
          <p:spPr>
            <a:xfrm>
              <a:off x="4572000" y="2203560"/>
              <a:ext cx="3697200" cy="1269720"/>
            </a:xfrm>
            <a:custGeom>
              <a:avLst/>
              <a:gdLst/>
              <a:ahLst/>
              <a:rect l="l" t="t" r="r" b="b"/>
              <a:pathLst>
                <a:path w="2329" h="800">
                  <a:moveTo>
                    <a:pt x="2328" y="799"/>
                  </a:moveTo>
                  <a:lnTo>
                    <a:pt x="2083" y="788"/>
                  </a:lnTo>
                  <a:lnTo>
                    <a:pt x="1958" y="780"/>
                  </a:lnTo>
                  <a:lnTo>
                    <a:pt x="1838" y="767"/>
                  </a:lnTo>
                  <a:lnTo>
                    <a:pt x="1715" y="748"/>
                  </a:lnTo>
                  <a:lnTo>
                    <a:pt x="1595" y="724"/>
                  </a:lnTo>
                  <a:lnTo>
                    <a:pt x="1470" y="690"/>
                  </a:lnTo>
                  <a:lnTo>
                    <a:pt x="1225" y="599"/>
                  </a:lnTo>
                  <a:lnTo>
                    <a:pt x="982" y="467"/>
                  </a:lnTo>
                  <a:lnTo>
                    <a:pt x="737" y="311"/>
                  </a:lnTo>
                  <a:lnTo>
                    <a:pt x="613" y="232"/>
                  </a:lnTo>
                  <a:lnTo>
                    <a:pt x="488" y="158"/>
                  </a:lnTo>
                  <a:lnTo>
                    <a:pt x="368" y="91"/>
                  </a:lnTo>
                  <a:lnTo>
                    <a:pt x="245" y="43"/>
                  </a:lnTo>
                  <a:lnTo>
                    <a:pt x="124" y="11"/>
                  </a:lnTo>
                  <a:lnTo>
                    <a:pt x="0" y="0"/>
                  </a:lnTo>
                </a:path>
              </a:pathLst>
            </a:custGeom>
            <a:noFill/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76240" y="2203560"/>
              <a:ext cx="3697200" cy="1269720"/>
            </a:xfrm>
            <a:custGeom>
              <a:avLst/>
              <a:gdLst/>
              <a:ahLst/>
              <a:rect l="l" t="t" r="r" b="b"/>
              <a:pathLst>
                <a:path w="2329" h="800">
                  <a:moveTo>
                    <a:pt x="0" y="799"/>
                  </a:moveTo>
                  <a:lnTo>
                    <a:pt x="245" y="788"/>
                  </a:lnTo>
                  <a:lnTo>
                    <a:pt x="368" y="780"/>
                  </a:lnTo>
                  <a:lnTo>
                    <a:pt x="490" y="767"/>
                  </a:lnTo>
                  <a:lnTo>
                    <a:pt x="613" y="748"/>
                  </a:lnTo>
                  <a:lnTo>
                    <a:pt x="737" y="724"/>
                  </a:lnTo>
                  <a:lnTo>
                    <a:pt x="858" y="690"/>
                  </a:lnTo>
                  <a:lnTo>
                    <a:pt x="1102" y="599"/>
                  </a:lnTo>
                  <a:lnTo>
                    <a:pt x="1346" y="467"/>
                  </a:lnTo>
                  <a:lnTo>
                    <a:pt x="1595" y="311"/>
                  </a:lnTo>
                  <a:lnTo>
                    <a:pt x="1715" y="232"/>
                  </a:lnTo>
                  <a:lnTo>
                    <a:pt x="1840" y="158"/>
                  </a:lnTo>
                  <a:lnTo>
                    <a:pt x="1960" y="91"/>
                  </a:lnTo>
                  <a:lnTo>
                    <a:pt x="2083" y="43"/>
                  </a:lnTo>
                  <a:lnTo>
                    <a:pt x="2208" y="11"/>
                  </a:lnTo>
                  <a:lnTo>
                    <a:pt x="2328" y="0"/>
                  </a:lnTo>
                </a:path>
              </a:pathLst>
            </a:custGeom>
            <a:noFill/>
            <a:ln cap="rnd"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911760" y="522936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6062400" y="1868400"/>
            <a:ext cx="731880" cy="909000"/>
            <a:chOff x="6062400" y="1868400"/>
            <a:chExt cx="731880" cy="909000"/>
          </a:xfrm>
        </p:grpSpPr>
        <p:grpSp>
          <p:nvGrpSpPr>
            <p:cNvPr id="1136" name=""/>
            <p:cNvGrpSpPr/>
            <p:nvPr/>
          </p:nvGrpSpPr>
          <p:grpSpPr>
            <a:xfrm>
              <a:off x="6062400" y="1892160"/>
              <a:ext cx="731880" cy="885240"/>
              <a:chOff x="6062400" y="1892160"/>
              <a:chExt cx="731880" cy="88524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6062400" y="1892160"/>
                <a:ext cx="724320" cy="885240"/>
                <a:chOff x="6062400" y="1892160"/>
                <a:chExt cx="724320" cy="885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062400" y="1892160"/>
                  <a:ext cx="48780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372000" y="2185920"/>
                  <a:ext cx="41472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3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3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0" name=""/>
              <p:cNvSpPr/>
              <p:nvPr/>
            </p:nvSpPr>
            <p:spPr>
              <a:xfrm>
                <a:off x="6610320" y="2354040"/>
                <a:ext cx="1839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97560" y="1868400"/>
              <a:ext cx="181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762120" y="3429000"/>
            <a:ext cx="7619760" cy="253800"/>
            <a:chOff x="762120" y="3429000"/>
            <a:chExt cx="7619760" cy="253800"/>
          </a:xfrm>
        </p:grpSpPr>
        <p:sp>
          <p:nvSpPr>
            <p:cNvPr id="1143" name=""/>
            <p:cNvSpPr/>
            <p:nvPr/>
          </p:nvSpPr>
          <p:spPr>
            <a:xfrm>
              <a:off x="762120" y="3547800"/>
              <a:ext cx="7619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048440" y="3429000"/>
              <a:ext cx="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942920" y="3429000"/>
              <a:ext cx="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05040" y="3429000"/>
              <a:ext cx="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86320" y="3429000"/>
              <a:ext cx="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524560" y="3429000"/>
              <a:ext cx="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467160" y="3429000"/>
              <a:ext cx="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1866960" y="46245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048440" y="46245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629080" y="462456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286680" y="462456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7160" y="4624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24560" y="4624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518080" y="5996160"/>
            <a:ext cx="1498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79920" y="5450040"/>
            <a:ext cx="787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609640" y="5450040"/>
            <a:ext cx="81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1860480" y="599616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224920" y="3306600"/>
            <a:ext cx="761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361120" y="4103640"/>
            <a:ext cx="1811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9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55720" y="3749760"/>
            <a:ext cx="376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.5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.6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744560" y="4103640"/>
            <a:ext cx="181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.9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95800" y="3701880"/>
            <a:ext cx="814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95120" y="1619280"/>
            <a:ext cx="27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136440" bIns="136440" anchor="ctr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± 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169-F416-4199-81BB-434BFE0AE8DB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estions on Probability Distribution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. A normal distribution would least likely be described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mpto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crete probability distrib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ymmetrical or bell-shaped distrib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urve that theoretically extends from negative infinity to posi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in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vestment strategy has an expected return of 12 percent and a standard deviation of 10 percent. If investment returns are normally distributed, the probability of earning a return less than 2 percent is closest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5334120" y="22860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228564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123720" y="45720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% is 1 st. dev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0%) away from the mean of 12%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know that for a Normal distribution there is a 68% chance of being within 1 st. dev. of the mea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1 st.dev below, so there is (1-.68)/2 = 16% chance of this occurri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"/>
          <p:cNvSpPr/>
          <p:nvPr/>
        </p:nvSpPr>
        <p:spPr>
          <a:xfrm>
            <a:off x="3048120" y="4495680"/>
            <a:ext cx="563868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FF4-9493-4EA4-9B3D-F3E12965DA0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estion on Confidence Interva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a normal distribution with a mean of 500 and a standard deviation of 150, the Z-value for an observation of 200 is closest t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.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.7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.7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.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standard deviation of a population is 100 and a sample size taken from that population is 64, the standard error of the sample means is closest t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8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5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4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.5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"/>
          <p:cNvSpPr/>
          <p:nvPr/>
        </p:nvSpPr>
        <p:spPr>
          <a:xfrm flipH="1" flipV="1">
            <a:off x="2133360" y="2133720"/>
            <a:ext cx="144756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2286000" y="5334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4267080" y="4952880"/>
                <a:ext cx="3353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652920" y="2590920"/>
                <a:ext cx="45324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8" name=""/>
          <p:cNvSpPr/>
          <p:nvPr/>
        </p:nvSpPr>
        <p:spPr>
          <a:xfrm>
            <a:off x="4114800" y="4648320"/>
            <a:ext cx="37339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657600" y="2209680"/>
            <a:ext cx="464832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4F0-C088-465E-B95E-8ED1A06F428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940040" y="200808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40040" y="200808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2008080"/>
            <a:ext cx="146232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52760" y="200808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94160" y="2008080"/>
            <a:ext cx="25318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35760" y="200808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76800" y="2008080"/>
            <a:ext cx="134316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29680" y="200808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29680" y="200808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40040" y="2049480"/>
            <a:ext cx="31680" cy="4017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2760" y="2049480"/>
            <a:ext cx="31680" cy="4017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35760" y="2049480"/>
            <a:ext cx="31680" cy="4017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29680" y="2049480"/>
            <a:ext cx="31680" cy="40176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11480" y="202572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03000" y="1965240"/>
            <a:ext cx="46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83080" y="2025720"/>
            <a:ext cx="103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0040" y="246060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52760" y="246060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94160" y="2460600"/>
            <a:ext cx="130644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9960" y="2460600"/>
            <a:ext cx="3204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51360" y="2460600"/>
            <a:ext cx="1174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35760" y="246060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29680" y="246060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40040" y="2502000"/>
            <a:ext cx="31680" cy="40140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52760" y="2502000"/>
            <a:ext cx="31680" cy="40140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35760" y="2502000"/>
            <a:ext cx="31680" cy="40140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29680" y="2502000"/>
            <a:ext cx="31680" cy="40140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95480" y="24782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87720" y="2417760"/>
            <a:ext cx="3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94000" y="2478240"/>
            <a:ext cx="103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83880" y="247644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85360" y="2476440"/>
            <a:ext cx="70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51760" y="247824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40040" y="2913120"/>
            <a:ext cx="31680" cy="460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2913120"/>
            <a:ext cx="146232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2941560"/>
            <a:ext cx="146232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52760" y="29131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52760" y="29415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94160" y="29131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94160" y="29415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49600" y="2913120"/>
            <a:ext cx="123840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49600" y="2941560"/>
            <a:ext cx="123840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97360" y="29131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97360" y="29415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24360" y="29131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24360" y="29415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79800" y="2913120"/>
            <a:ext cx="114804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79800" y="2941560"/>
            <a:ext cx="114804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35760" y="29131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35760" y="29415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76800" y="2913120"/>
            <a:ext cx="460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76800" y="2941560"/>
            <a:ext cx="4608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32600" y="2913120"/>
            <a:ext cx="128880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32600" y="2941560"/>
            <a:ext cx="128880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29680" y="2913120"/>
            <a:ext cx="4572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29680" y="2941560"/>
            <a:ext cx="45720" cy="176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40040" y="2968560"/>
            <a:ext cx="31680" cy="608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2480" y="2968560"/>
            <a:ext cx="31680" cy="608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97360" y="2968560"/>
            <a:ext cx="17640" cy="608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40440" y="2968560"/>
            <a:ext cx="31680" cy="608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39040" y="2968560"/>
            <a:ext cx="31680" cy="60804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73160" y="304812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3520" y="2968560"/>
            <a:ext cx="1284480" cy="608040"/>
          </a:xfrm>
          <a:prstGeom prst="rect">
            <a:avLst/>
          </a:prstGeom>
          <a:solidFill>
            <a:srgbClr val="66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10240" y="304812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24360" y="2968560"/>
            <a:ext cx="1206720" cy="608040"/>
          </a:xfrm>
          <a:prstGeom prst="rect">
            <a:avLst/>
          </a:prstGeom>
          <a:solidFill>
            <a:srgbClr val="66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18480" y="3048120"/>
            <a:ext cx="6372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01280" y="3048120"/>
            <a:ext cx="1323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H, H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40040" y="3586320"/>
            <a:ext cx="316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81080" y="3586320"/>
            <a:ext cx="14716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62480" y="3586320"/>
            <a:ext cx="316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3520" y="3586320"/>
            <a:ext cx="12844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797360" y="3586320"/>
            <a:ext cx="1764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24360" y="3586320"/>
            <a:ext cx="120672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40440" y="3586320"/>
            <a:ext cx="316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81840" y="3586320"/>
            <a:ext cx="134784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39040" y="3586320"/>
            <a:ext cx="31680" cy="172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40040" y="3613320"/>
            <a:ext cx="3168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2480" y="3613320"/>
            <a:ext cx="3168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97360" y="3613320"/>
            <a:ext cx="1764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40440" y="3613320"/>
            <a:ext cx="3168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39040" y="3613320"/>
            <a:ext cx="3168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73520" y="3692520"/>
            <a:ext cx="732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3520" y="3613320"/>
            <a:ext cx="1284480" cy="607680"/>
          </a:xfrm>
          <a:prstGeom prst="rect">
            <a:avLst/>
          </a:prstGeom>
          <a:solidFill>
            <a:srgbClr val="66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34000" y="3692520"/>
            <a:ext cx="6372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24360" y="3613320"/>
            <a:ext cx="1206720" cy="607680"/>
          </a:xfrm>
          <a:prstGeom prst="rect">
            <a:avLst/>
          </a:prstGeom>
          <a:solidFill>
            <a:srgbClr val="66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37560" y="3692520"/>
            <a:ext cx="599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42320" y="3692520"/>
            <a:ext cx="12466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, 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40040" y="42307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4230720"/>
            <a:ext cx="146232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52760" y="42307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94160" y="42307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35200" y="4230720"/>
            <a:ext cx="125280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97360" y="42307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24360" y="42307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65760" y="4230720"/>
            <a:ext cx="11602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35760" y="42307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76800" y="4230720"/>
            <a:ext cx="3204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8200" y="4230720"/>
            <a:ext cx="130176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29680" y="42307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29680" y="42307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40040" y="4272120"/>
            <a:ext cx="3168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40040" y="48895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40040" y="48895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81080" y="4889520"/>
            <a:ext cx="146232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52760" y="4272120"/>
            <a:ext cx="3168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52760" y="48895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94160" y="4889520"/>
            <a:ext cx="129852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2040" y="4272120"/>
            <a:ext cx="1764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02040" y="4889520"/>
            <a:ext cx="3204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843440" y="4889520"/>
            <a:ext cx="118440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35760" y="4272120"/>
            <a:ext cx="3168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35760" y="48895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76800" y="4889520"/>
            <a:ext cx="134316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429680" y="4272120"/>
            <a:ext cx="31680" cy="607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29680" y="48895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29680" y="4889520"/>
            <a:ext cx="31680" cy="31680"/>
          </a:xfrm>
          <a:prstGeom prst="rect">
            <a:avLst/>
          </a:prstGeom>
          <a:solidFill>
            <a:srgbClr val="d98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73160" y="4351320"/>
            <a:ext cx="9435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0640" y="4351320"/>
            <a:ext cx="7711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H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89240" y="4411800"/>
            <a:ext cx="255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62680" y="4351320"/>
            <a:ext cx="6372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30840" y="4351320"/>
            <a:ext cx="732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78400" y="4411800"/>
            <a:ext cx="255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51840" y="4351320"/>
            <a:ext cx="599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48400" y="4351320"/>
            <a:ext cx="410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gency Tabl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6040" y="1271520"/>
            <a:ext cx="7540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:  Toss 2 Coins.  Note 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868320" y="4019400"/>
            <a:ext cx="6702480" cy="1631160"/>
            <a:chOff x="868320" y="4019400"/>
            <a:chExt cx="6702480" cy="1631160"/>
          </a:xfrm>
        </p:grpSpPr>
        <p:sp>
          <p:nvSpPr>
            <p:cNvPr id="465" name=""/>
            <p:cNvSpPr/>
            <p:nvPr/>
          </p:nvSpPr>
          <p:spPr>
            <a:xfrm>
              <a:off x="868320" y="5195880"/>
              <a:ext cx="319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3832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 = {HH, HT, TH, T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11720" y="5195880"/>
              <a:ext cx="235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3832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mple 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83240" y="4019400"/>
              <a:ext cx="444600" cy="1206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749920" y="2635560"/>
            <a:ext cx="3268800" cy="1917720"/>
            <a:chOff x="5749920" y="2635560"/>
            <a:chExt cx="3268800" cy="1917720"/>
          </a:xfrm>
        </p:grpSpPr>
        <p:sp>
          <p:nvSpPr>
            <p:cNvPr id="469" name=""/>
            <p:cNvSpPr/>
            <p:nvPr/>
          </p:nvSpPr>
          <p:spPr>
            <a:xfrm>
              <a:off x="7574040" y="2635560"/>
              <a:ext cx="144468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 (Count, Total % Shown Usuall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749920" y="2863800"/>
              <a:ext cx="1892520" cy="3934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82520" y="2818440"/>
            <a:ext cx="1757160" cy="1551960"/>
            <a:chOff x="182520" y="2818440"/>
            <a:chExt cx="1757160" cy="1551960"/>
          </a:xfrm>
        </p:grpSpPr>
        <p:sp>
          <p:nvSpPr>
            <p:cNvPr id="472" name=""/>
            <p:cNvSpPr/>
            <p:nvPr/>
          </p:nvSpPr>
          <p:spPr>
            <a:xfrm>
              <a:off x="182520" y="2818440"/>
              <a:ext cx="152100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mp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nt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Head o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st Coi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317240" y="3251520"/>
              <a:ext cx="622440" cy="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BA2-59C6-4057-AF21-8F0F9B6EE5F1}" type="slidenum">
              <a:t>4</a:t>
            </a:fld>
          </a:p>
        </p:txBody>
      </p:sp>
    </p:spTree>
  </p:cSld>
  <p:transition advTm="240000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hesis Testing Proces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793800" y="1425600"/>
            <a:ext cx="2469240" cy="1553400"/>
            <a:chOff x="793800" y="1425600"/>
            <a:chExt cx="2469240" cy="1553400"/>
          </a:xfrm>
        </p:grpSpPr>
        <p:sp>
          <p:nvSpPr>
            <p:cNvPr id="1182" name=""/>
            <p:cNvSpPr/>
            <p:nvPr/>
          </p:nvSpPr>
          <p:spPr>
            <a:xfrm>
              <a:off x="793800" y="1425600"/>
              <a:ext cx="196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I Believe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93800" y="179244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94160" y="2157480"/>
              <a:ext cx="246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Mean Age is 5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95240" y="2524320"/>
              <a:ext cx="202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Hypothesi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7067520" y="3247920"/>
            <a:ext cx="677880" cy="704880"/>
          </a:xfrm>
          <a:custGeom>
            <a:avLst/>
            <a:gdLst/>
            <a:ahLst/>
            <a:rect l="l" t="t" r="r" b="b"/>
            <a:pathLst>
              <a:path w="427" h="444">
                <a:moveTo>
                  <a:pt x="107" y="0"/>
                </a:moveTo>
                <a:lnTo>
                  <a:pt x="320" y="0"/>
                </a:lnTo>
                <a:lnTo>
                  <a:pt x="320" y="335"/>
                </a:lnTo>
                <a:lnTo>
                  <a:pt x="426" y="335"/>
                </a:lnTo>
                <a:lnTo>
                  <a:pt x="214" y="443"/>
                </a:lnTo>
                <a:lnTo>
                  <a:pt x="0" y="335"/>
                </a:lnTo>
                <a:lnTo>
                  <a:pt x="107" y="335"/>
                </a:lnTo>
                <a:lnTo>
                  <a:pt x="107" y="0"/>
                </a:lnTo>
              </a:path>
            </a:pathLst>
          </a:custGeom>
          <a:solidFill>
            <a:srgbClr val="ccb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898720" y="4327560"/>
            <a:ext cx="930240" cy="677880"/>
          </a:xfrm>
          <a:custGeom>
            <a:avLst/>
            <a:gdLst/>
            <a:ahLst/>
            <a:rect l="l" t="t" r="r" b="b"/>
            <a:pathLst>
              <a:path w="586" h="427">
                <a:moveTo>
                  <a:pt x="585" y="106"/>
                </a:moveTo>
                <a:lnTo>
                  <a:pt x="585" y="320"/>
                </a:lnTo>
                <a:lnTo>
                  <a:pt x="106" y="320"/>
                </a:lnTo>
                <a:lnTo>
                  <a:pt x="106" y="426"/>
                </a:lnTo>
                <a:lnTo>
                  <a:pt x="0" y="212"/>
                </a:lnTo>
                <a:lnTo>
                  <a:pt x="106" y="0"/>
                </a:lnTo>
                <a:lnTo>
                  <a:pt x="106" y="106"/>
                </a:lnTo>
                <a:lnTo>
                  <a:pt x="585" y="106"/>
                </a:lnTo>
              </a:path>
            </a:pathLst>
          </a:custGeom>
          <a:solidFill>
            <a:srgbClr val="ccb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069920" y="4302000"/>
            <a:ext cx="1500120" cy="723960"/>
          </a:xfrm>
          <a:custGeom>
            <a:avLst/>
            <a:gdLst/>
            <a:ahLst/>
            <a:rect l="l" t="t" r="r" b="b"/>
            <a:pathLst>
              <a:path w="945" h="456">
                <a:moveTo>
                  <a:pt x="0" y="360"/>
                </a:moveTo>
                <a:lnTo>
                  <a:pt x="0" y="95"/>
                </a:lnTo>
                <a:lnTo>
                  <a:pt x="95" y="0"/>
                </a:lnTo>
                <a:lnTo>
                  <a:pt x="849" y="0"/>
                </a:lnTo>
                <a:lnTo>
                  <a:pt x="944" y="95"/>
                </a:lnTo>
                <a:lnTo>
                  <a:pt x="944" y="360"/>
                </a:lnTo>
                <a:lnTo>
                  <a:pt x="849" y="455"/>
                </a:lnTo>
                <a:lnTo>
                  <a:pt x="95" y="455"/>
                </a:lnTo>
                <a:lnTo>
                  <a:pt x="0" y="360"/>
                </a:lnTo>
                <a:lnTo>
                  <a:pt x="48" y="347"/>
                </a:lnTo>
                <a:lnTo>
                  <a:pt x="48" y="111"/>
                </a:lnTo>
                <a:lnTo>
                  <a:pt x="108" y="47"/>
                </a:lnTo>
                <a:lnTo>
                  <a:pt x="834" y="47"/>
                </a:lnTo>
                <a:lnTo>
                  <a:pt x="896" y="111"/>
                </a:lnTo>
                <a:lnTo>
                  <a:pt x="896" y="347"/>
                </a:lnTo>
                <a:lnTo>
                  <a:pt x="834" y="408"/>
                </a:lnTo>
                <a:lnTo>
                  <a:pt x="108" y="408"/>
                </a:lnTo>
                <a:lnTo>
                  <a:pt x="48" y="347"/>
                </a:lnTo>
                <a:lnTo>
                  <a:pt x="0" y="36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411880" y="4327560"/>
            <a:ext cx="931680" cy="677880"/>
          </a:xfrm>
          <a:custGeom>
            <a:avLst/>
            <a:gdLst/>
            <a:ahLst/>
            <a:rect l="l" t="t" r="r" b="b"/>
            <a:pathLst>
              <a:path w="587" h="427">
                <a:moveTo>
                  <a:pt x="586" y="106"/>
                </a:moveTo>
                <a:lnTo>
                  <a:pt x="586" y="320"/>
                </a:lnTo>
                <a:lnTo>
                  <a:pt x="107" y="320"/>
                </a:lnTo>
                <a:lnTo>
                  <a:pt x="107" y="426"/>
                </a:lnTo>
                <a:lnTo>
                  <a:pt x="0" y="212"/>
                </a:lnTo>
                <a:lnTo>
                  <a:pt x="107" y="0"/>
                </a:lnTo>
                <a:lnTo>
                  <a:pt x="107" y="106"/>
                </a:lnTo>
                <a:lnTo>
                  <a:pt x="586" y="106"/>
                </a:lnTo>
              </a:path>
            </a:pathLst>
          </a:custGeom>
          <a:solidFill>
            <a:srgbClr val="ccb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19640" y="1822320"/>
            <a:ext cx="933120" cy="677880"/>
          </a:xfrm>
          <a:custGeom>
            <a:avLst/>
            <a:gdLst/>
            <a:ahLst/>
            <a:rect l="l" t="t" r="r" b="b"/>
            <a:pathLst>
              <a:path w="588" h="427">
                <a:moveTo>
                  <a:pt x="0" y="320"/>
                </a:moveTo>
                <a:lnTo>
                  <a:pt x="0" y="106"/>
                </a:lnTo>
                <a:lnTo>
                  <a:pt x="479" y="106"/>
                </a:lnTo>
                <a:lnTo>
                  <a:pt x="479" y="0"/>
                </a:lnTo>
                <a:lnTo>
                  <a:pt x="587" y="214"/>
                </a:lnTo>
                <a:lnTo>
                  <a:pt x="479" y="426"/>
                </a:lnTo>
                <a:lnTo>
                  <a:pt x="479" y="320"/>
                </a:lnTo>
                <a:lnTo>
                  <a:pt x="0" y="320"/>
                </a:lnTo>
              </a:path>
            </a:pathLst>
          </a:custGeom>
          <a:solidFill>
            <a:srgbClr val="ccb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74440" y="341964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130400" y="3419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24440" y="3419640"/>
            <a:ext cx="42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436840" y="369900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74800" y="3784680"/>
            <a:ext cx="35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049400" y="3976560"/>
            <a:ext cx="37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11520" y="40640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3657240" y="3200400"/>
            <a:ext cx="2670480" cy="2260080"/>
            <a:chOff x="3657240" y="3200400"/>
            <a:chExt cx="2670480" cy="2260080"/>
          </a:xfrm>
        </p:grpSpPr>
        <p:sp>
          <p:nvSpPr>
            <p:cNvPr id="1199" name=""/>
            <p:cNvSpPr/>
            <p:nvPr/>
          </p:nvSpPr>
          <p:spPr>
            <a:xfrm>
              <a:off x="5411880" y="4327200"/>
              <a:ext cx="915840" cy="687240"/>
            </a:xfrm>
            <a:custGeom>
              <a:avLst/>
              <a:gdLst/>
              <a:ahLst/>
              <a:rect l="l" t="t" r="r" b="b"/>
              <a:pathLst>
                <a:path w="577" h="433">
                  <a:moveTo>
                    <a:pt x="576" y="324"/>
                  </a:moveTo>
                  <a:lnTo>
                    <a:pt x="108" y="324"/>
                  </a:lnTo>
                  <a:lnTo>
                    <a:pt x="108" y="432"/>
                  </a:lnTo>
                  <a:lnTo>
                    <a:pt x="0" y="215"/>
                  </a:lnTo>
                  <a:lnTo>
                    <a:pt x="108" y="0"/>
                  </a:lnTo>
                  <a:lnTo>
                    <a:pt x="108" y="107"/>
                  </a:lnTo>
                  <a:lnTo>
                    <a:pt x="576" y="107"/>
                  </a:lnTo>
                </a:path>
              </a:pathLst>
            </a:custGeom>
            <a:solidFill>
              <a:srgbClr val="ccb37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57240" y="3200400"/>
              <a:ext cx="189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2afd"/>
                  </a:solidFill>
                  <a:latin typeface="Arial"/>
                </a:rPr>
                <a:t>The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39680" y="3565440"/>
              <a:ext cx="172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2afd"/>
                  </a:solidFill>
                  <a:latin typeface="Arial"/>
                </a:rPr>
                <a:t>Mean Is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4094280" y="3989160"/>
              <a:ext cx="1027080" cy="1471320"/>
              <a:chOff x="4094280" y="3989160"/>
              <a:chExt cx="1027080" cy="1471320"/>
            </a:xfrm>
          </p:grpSpPr>
          <p:grpSp>
            <p:nvGrpSpPr>
              <p:cNvPr id="1203" name=""/>
              <p:cNvGrpSpPr/>
              <p:nvPr/>
            </p:nvGrpSpPr>
            <p:grpSpPr>
              <a:xfrm>
                <a:off x="4094280" y="3989160"/>
                <a:ext cx="1027080" cy="1471320"/>
                <a:chOff x="4094280" y="3989160"/>
                <a:chExt cx="1027080" cy="147132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4094280" y="3989160"/>
                  <a:ext cx="1027080" cy="1471320"/>
                  <a:chOff x="4094280" y="3989160"/>
                  <a:chExt cx="1027080" cy="147132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4094280" y="3989160"/>
                    <a:ext cx="10270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7" h="5">
                        <a:moveTo>
                          <a:pt x="0" y="0"/>
                        </a:moveTo>
                        <a:lnTo>
                          <a:pt x="646" y="0"/>
                        </a:lnTo>
                        <a:lnTo>
                          <a:pt x="604" y="4"/>
                        </a:lnTo>
                        <a:lnTo>
                          <a:pt x="40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4094280" y="3989160"/>
                    <a:ext cx="1027080" cy="14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47" h="927">
                        <a:moveTo>
                          <a:pt x="0" y="0"/>
                        </a:moveTo>
                        <a:lnTo>
                          <a:pt x="43" y="11"/>
                        </a:lnTo>
                        <a:lnTo>
                          <a:pt x="602" y="11"/>
                        </a:lnTo>
                        <a:lnTo>
                          <a:pt x="646" y="0"/>
                        </a:lnTo>
                        <a:lnTo>
                          <a:pt x="646" y="854"/>
                        </a:lnTo>
                        <a:lnTo>
                          <a:pt x="641" y="872"/>
                        </a:lnTo>
                        <a:lnTo>
                          <a:pt x="633" y="890"/>
                        </a:lnTo>
                        <a:lnTo>
                          <a:pt x="624" y="905"/>
                        </a:lnTo>
                        <a:lnTo>
                          <a:pt x="611" y="915"/>
                        </a:lnTo>
                        <a:lnTo>
                          <a:pt x="598" y="922"/>
                        </a:lnTo>
                        <a:lnTo>
                          <a:pt x="580" y="926"/>
                        </a:lnTo>
                        <a:lnTo>
                          <a:pt x="65" y="926"/>
                        </a:lnTo>
                        <a:lnTo>
                          <a:pt x="42" y="923"/>
                        </a:lnTo>
                        <a:lnTo>
                          <a:pt x="27" y="914"/>
                        </a:lnTo>
                        <a:lnTo>
                          <a:pt x="16" y="901"/>
                        </a:lnTo>
                        <a:lnTo>
                          <a:pt x="7" y="889"/>
                        </a:lnTo>
                        <a:lnTo>
                          <a:pt x="2" y="872"/>
                        </a:lnTo>
                        <a:lnTo>
                          <a:pt x="0" y="85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7" name=""/>
                <p:cNvGrpSpPr/>
                <p:nvPr/>
              </p:nvGrpSpPr>
              <p:grpSpPr>
                <a:xfrm>
                  <a:off x="4159440" y="4006440"/>
                  <a:ext cx="896760" cy="1383840"/>
                  <a:chOff x="4159440" y="4006440"/>
                  <a:chExt cx="896760" cy="1383840"/>
                </a:xfrm>
              </p:grpSpPr>
              <p:grpSp>
                <p:nvGrpSpPr>
                  <p:cNvPr id="1208" name=""/>
                  <p:cNvGrpSpPr/>
                  <p:nvPr/>
                </p:nvGrpSpPr>
                <p:grpSpPr>
                  <a:xfrm>
                    <a:off x="4159440" y="4006440"/>
                    <a:ext cx="896760" cy="1383840"/>
                    <a:chOff x="4159440" y="4006440"/>
                    <a:chExt cx="896760" cy="1383840"/>
                  </a:xfrm>
                </p:grpSpPr>
                <p:grpSp>
                  <p:nvGrpSpPr>
                    <p:cNvPr id="1209" name=""/>
                    <p:cNvGrpSpPr/>
                    <p:nvPr/>
                  </p:nvGrpSpPr>
                  <p:grpSpPr>
                    <a:xfrm>
                      <a:off x="4159440" y="4006440"/>
                      <a:ext cx="896760" cy="1383840"/>
                      <a:chOff x="4159440" y="4006440"/>
                      <a:chExt cx="896760" cy="1383840"/>
                    </a:xfrm>
                  </p:grpSpPr>
                  <p:sp>
                    <p:nvSpPr>
                      <p:cNvPr id="1210" name=""/>
                      <p:cNvSpPr/>
                      <p:nvPr/>
                    </p:nvSpPr>
                    <p:spPr>
                      <a:xfrm>
                        <a:off x="4159440" y="4007520"/>
                        <a:ext cx="895320" cy="137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4" h="864">
                            <a:moveTo>
                              <a:pt x="0" y="0"/>
                            </a:moveTo>
                            <a:lnTo>
                              <a:pt x="563" y="0"/>
                            </a:lnTo>
                            <a:lnTo>
                              <a:pt x="558" y="801"/>
                            </a:lnTo>
                            <a:lnTo>
                              <a:pt x="554" y="817"/>
                            </a:lnTo>
                            <a:lnTo>
                              <a:pt x="547" y="832"/>
                            </a:lnTo>
                            <a:lnTo>
                              <a:pt x="539" y="845"/>
                            </a:lnTo>
                            <a:lnTo>
                              <a:pt x="528" y="854"/>
                            </a:lnTo>
                            <a:lnTo>
                              <a:pt x="516" y="860"/>
                            </a:lnTo>
                            <a:lnTo>
                              <a:pt x="500" y="863"/>
                            </a:lnTo>
                            <a:lnTo>
                              <a:pt x="57" y="863"/>
                            </a:lnTo>
                            <a:lnTo>
                              <a:pt x="37" y="863"/>
                            </a:lnTo>
                            <a:lnTo>
                              <a:pt x="25" y="856"/>
                            </a:lnTo>
                            <a:lnTo>
                              <a:pt x="15" y="848"/>
                            </a:lnTo>
                            <a:lnTo>
                              <a:pt x="7" y="833"/>
                            </a:lnTo>
                            <a:lnTo>
                              <a:pt x="2" y="816"/>
                            </a:lnTo>
                            <a:lnTo>
                              <a:pt x="0" y="80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aec5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168800" y="4006440"/>
                        <a:ext cx="887400" cy="138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9" h="872">
                            <a:moveTo>
                              <a:pt x="0" y="10"/>
                            </a:moveTo>
                            <a:lnTo>
                              <a:pt x="551" y="6"/>
                            </a:lnTo>
                            <a:lnTo>
                              <a:pt x="558" y="0"/>
                            </a:lnTo>
                            <a:lnTo>
                              <a:pt x="558" y="809"/>
                            </a:lnTo>
                            <a:lnTo>
                              <a:pt x="555" y="825"/>
                            </a:lnTo>
                            <a:lnTo>
                              <a:pt x="547" y="840"/>
                            </a:lnTo>
                            <a:lnTo>
                              <a:pt x="540" y="853"/>
                            </a:lnTo>
                            <a:lnTo>
                              <a:pt x="528" y="862"/>
                            </a:lnTo>
                            <a:lnTo>
                              <a:pt x="517" y="868"/>
                            </a:lnTo>
                            <a:lnTo>
                              <a:pt x="501" y="871"/>
                            </a:lnTo>
                            <a:lnTo>
                              <a:pt x="57" y="871"/>
                            </a:lnTo>
                            <a:lnTo>
                              <a:pt x="37" y="868"/>
                            </a:lnTo>
                            <a:lnTo>
                              <a:pt x="25" y="864"/>
                            </a:lnTo>
                            <a:lnTo>
                              <a:pt x="15" y="856"/>
                            </a:lnTo>
                            <a:lnTo>
                              <a:pt x="7" y="841"/>
                            </a:lnTo>
                            <a:lnTo>
                              <a:pt x="3" y="824"/>
                            </a:lnTo>
                            <a:lnTo>
                              <a:pt x="0" y="809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>
                        <a:off x="4164120" y="4010760"/>
                        <a:ext cx="887400" cy="137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9" h="865">
                            <a:moveTo>
                              <a:pt x="0" y="0"/>
                            </a:moveTo>
                            <a:lnTo>
                              <a:pt x="558" y="0"/>
                            </a:lnTo>
                            <a:lnTo>
                              <a:pt x="558" y="802"/>
                            </a:lnTo>
                            <a:lnTo>
                              <a:pt x="555" y="818"/>
                            </a:lnTo>
                            <a:lnTo>
                              <a:pt x="548" y="832"/>
                            </a:lnTo>
                            <a:lnTo>
                              <a:pt x="540" y="845"/>
                            </a:lnTo>
                            <a:lnTo>
                              <a:pt x="528" y="854"/>
                            </a:lnTo>
                            <a:lnTo>
                              <a:pt x="517" y="861"/>
                            </a:lnTo>
                            <a:lnTo>
                              <a:pt x="501" y="864"/>
                            </a:lnTo>
                            <a:lnTo>
                              <a:pt x="58" y="864"/>
                            </a:lnTo>
                            <a:lnTo>
                              <a:pt x="37" y="861"/>
                            </a:lnTo>
                            <a:lnTo>
                              <a:pt x="26" y="856"/>
                            </a:lnTo>
                            <a:lnTo>
                              <a:pt x="16" y="848"/>
                            </a:lnTo>
                            <a:lnTo>
                              <a:pt x="8" y="834"/>
                            </a:lnTo>
                            <a:lnTo>
                              <a:pt x="3" y="816"/>
                            </a:lnTo>
                            <a:lnTo>
                              <a:pt x="0" y="80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13" name=""/>
                    <p:cNvGrpSpPr/>
                    <p:nvPr/>
                  </p:nvGrpSpPr>
                  <p:grpSpPr>
                    <a:xfrm>
                      <a:off x="4197600" y="4095000"/>
                      <a:ext cx="823680" cy="256320"/>
                      <a:chOff x="4197600" y="4095000"/>
                      <a:chExt cx="823680" cy="256320"/>
                    </a:xfrm>
                  </p:grpSpPr>
                  <p:grpSp>
                    <p:nvGrpSpPr>
                      <p:cNvPr id="1214" name=""/>
                      <p:cNvGrpSpPr/>
                      <p:nvPr/>
                    </p:nvGrpSpPr>
                    <p:grpSpPr>
                      <a:xfrm>
                        <a:off x="4197600" y="4095000"/>
                        <a:ext cx="823680" cy="256320"/>
                        <a:chOff x="4197600" y="4095000"/>
                        <a:chExt cx="823680" cy="256320"/>
                      </a:xfrm>
                    </p:grpSpPr>
                    <p:grpSp>
                      <p:nvGrpSpPr>
                        <p:cNvPr id="1215" name=""/>
                        <p:cNvGrpSpPr/>
                        <p:nvPr/>
                      </p:nvGrpSpPr>
                      <p:grpSpPr>
                        <a:xfrm>
                          <a:off x="4197600" y="4281840"/>
                          <a:ext cx="820440" cy="69480"/>
                          <a:chOff x="4197600" y="4281840"/>
                          <a:chExt cx="820440" cy="69480"/>
                        </a:xfrm>
                      </p:grpSpPr>
                      <p:grpSp>
                        <p:nvGrpSpPr>
                          <p:cNvPr id="1216" name=""/>
                          <p:cNvGrpSpPr/>
                          <p:nvPr/>
                        </p:nvGrpSpPr>
                        <p:grpSpPr>
                          <a:xfrm>
                            <a:off x="4197600" y="4281840"/>
                            <a:ext cx="820440" cy="69480"/>
                            <a:chOff x="4197600" y="4281840"/>
                            <a:chExt cx="820440" cy="69480"/>
                          </a:xfrm>
                        </p:grpSpPr>
                        <p:sp>
                          <p:nvSpPr>
                            <p:cNvPr id="1217" name=""/>
                            <p:cNvSpPr/>
                            <p:nvPr/>
                          </p:nvSpPr>
                          <p:spPr>
                            <a:xfrm>
                              <a:off x="4197600" y="4281840"/>
                              <a:ext cx="820440" cy="69480"/>
                            </a:xfrm>
                            <a:prstGeom prst="roundRect">
                              <a:avLst>
                                <a:gd name="adj" fmla="val 21148"/>
                              </a:avLst>
                            </a:prstGeom>
                            <a:solidFill>
                              <a:srgbClr val="8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4040" bIns="140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18" name=""/>
                            <p:cNvSpPr/>
                            <p:nvPr/>
                          </p:nvSpPr>
                          <p:spPr>
                            <a:xfrm>
                              <a:off x="4516560" y="4281840"/>
                              <a:ext cx="501480" cy="69480"/>
                            </a:xfrm>
                            <a:prstGeom prst="roundRect">
                              <a:avLst>
                                <a:gd name="adj" fmla="val 15380"/>
                              </a:avLst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920" bIns="169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19" name=""/>
                            <p:cNvSpPr/>
                            <p:nvPr/>
                          </p:nvSpPr>
                          <p:spPr>
                            <a:xfrm>
                              <a:off x="4508640" y="4297320"/>
                              <a:ext cx="20520" cy="53640"/>
                            </a:xfrm>
                            <a:prstGeom prst="rect">
                              <a:avLst/>
                            </a:prstGeom>
                            <a:solidFill>
                              <a:srgbClr val="8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6840" bIns="68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20" name=""/>
                          <p:cNvSpPr/>
                          <p:nvPr/>
                        </p:nvSpPr>
                        <p:spPr>
                          <a:xfrm>
                            <a:off x="4226040" y="4309920"/>
                            <a:ext cx="272880" cy="25200"/>
                          </a:xfrm>
                          <a:prstGeom prst="rect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1600" bIns="-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21" name=""/>
                        <p:cNvGrpSpPr/>
                        <p:nvPr/>
                      </p:nvGrpSpPr>
                      <p:grpSpPr>
                        <a:xfrm>
                          <a:off x="4197600" y="4095000"/>
                          <a:ext cx="823680" cy="193320"/>
                          <a:chOff x="4197600" y="4095000"/>
                          <a:chExt cx="823680" cy="193320"/>
                        </a:xfrm>
                      </p:grpSpPr>
                      <p:grpSp>
                        <p:nvGrpSpPr>
                          <p:cNvPr id="1222" name=""/>
                          <p:cNvGrpSpPr/>
                          <p:nvPr/>
                        </p:nvGrpSpPr>
                        <p:grpSpPr>
                          <a:xfrm>
                            <a:off x="4197600" y="4095000"/>
                            <a:ext cx="823680" cy="193320"/>
                            <a:chOff x="4197600" y="4095000"/>
                            <a:chExt cx="823680" cy="193320"/>
                          </a:xfrm>
                        </p:grpSpPr>
                        <p:sp>
                          <p:nvSpPr>
                            <p:cNvPr id="1223" name=""/>
                            <p:cNvSpPr/>
                            <p:nvPr/>
                          </p:nvSpPr>
                          <p:spPr>
                            <a:xfrm>
                              <a:off x="4197600" y="4259520"/>
                              <a:ext cx="823680" cy="26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9" h="17">
                                  <a:moveTo>
                                    <a:pt x="0" y="16"/>
                                  </a:moveTo>
                                  <a:lnTo>
                                    <a:pt x="24" y="0"/>
                                  </a:lnTo>
                                  <a:lnTo>
                                    <a:pt x="491" y="0"/>
                                  </a:lnTo>
                                  <a:lnTo>
                                    <a:pt x="518" y="16"/>
                                  </a:lnTo>
                                  <a:lnTo>
                                    <a:pt x="0" y="16"/>
                                  </a:lnTo>
                                </a:path>
                              </a:pathLst>
                            </a:custGeom>
                            <a:solidFill>
                              <a:srgbClr val="fff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160" bIns="-20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24" name=""/>
                            <p:cNvSpPr/>
                            <p:nvPr/>
                          </p:nvSpPr>
                          <p:spPr>
                            <a:xfrm>
                              <a:off x="4983120" y="4095000"/>
                              <a:ext cx="38160" cy="193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4" h="122">
                                  <a:moveTo>
                                    <a:pt x="0" y="95"/>
                                  </a:moveTo>
                                  <a:lnTo>
                                    <a:pt x="23" y="121"/>
                                  </a:lnTo>
                                  <a:lnTo>
                                    <a:pt x="23" y="0"/>
                                  </a:lnTo>
                                  <a:lnTo>
                                    <a:pt x="0" y="25"/>
                                  </a:lnTo>
                                  <a:lnTo>
                                    <a:pt x="0" y="95"/>
                                  </a:lnTo>
                                </a:path>
                              </a:pathLst>
                            </a:custGeom>
                            <a:solidFill>
                              <a:srgbClr val="ffffd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25" name=""/>
                            <p:cNvSpPr/>
                            <p:nvPr/>
                          </p:nvSpPr>
                          <p:spPr>
                            <a:xfrm>
                              <a:off x="4197600" y="4095000"/>
                              <a:ext cx="823680" cy="31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9" h="20">
                                  <a:moveTo>
                                    <a:pt x="0" y="0"/>
                                  </a:moveTo>
                                  <a:lnTo>
                                    <a:pt x="30" y="19"/>
                                  </a:lnTo>
                                  <a:lnTo>
                                    <a:pt x="491" y="18"/>
                                  </a:lnTo>
                                  <a:lnTo>
                                    <a:pt x="518" y="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f3f37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480" bIns="-15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26" name=""/>
                            <p:cNvSpPr/>
                            <p:nvPr/>
                          </p:nvSpPr>
                          <p:spPr>
                            <a:xfrm>
                              <a:off x="4197600" y="4095000"/>
                              <a:ext cx="37800" cy="191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4" h="121">
                                  <a:moveTo>
                                    <a:pt x="23" y="94"/>
                                  </a:moveTo>
                                  <a:lnTo>
                                    <a:pt x="0" y="12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23" y="26"/>
                                  </a:lnTo>
                                  <a:lnTo>
                                    <a:pt x="23" y="94"/>
                                  </a:lnTo>
                                </a:path>
                              </a:pathLst>
                            </a:custGeom>
                            <a:solidFill>
                              <a:srgbClr val="bfb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227" name=""/>
                            <p:cNvGrpSpPr/>
                            <p:nvPr/>
                          </p:nvGrpSpPr>
                          <p:grpSpPr>
                            <a:xfrm>
                              <a:off x="4235400" y="4127760"/>
                              <a:ext cx="743040" cy="121680"/>
                              <a:chOff x="4235400" y="4127760"/>
                              <a:chExt cx="743040" cy="121680"/>
                            </a:xfrm>
                          </p:grpSpPr>
                          <p:sp>
                            <p:nvSpPr>
                              <p:cNvPr id="1228" name=""/>
                              <p:cNvSpPr/>
                              <p:nvPr/>
                            </p:nvSpPr>
                            <p:spPr>
                              <a:xfrm>
                                <a:off x="4235400" y="4132080"/>
                                <a:ext cx="741600" cy="117360"/>
                              </a:xfrm>
                              <a:prstGeom prst="roundRect">
                                <a:avLst>
                                  <a:gd name="adj" fmla="val 13407"/>
                                </a:avLst>
                              </a:pr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9" name=""/>
                              <p:cNvSpPr/>
                              <p:nvPr/>
                            </p:nvSpPr>
                            <p:spPr>
                              <a:xfrm>
                                <a:off x="4238640" y="4127760"/>
                                <a:ext cx="739800" cy="118800"/>
                              </a:xfrm>
                              <a:prstGeom prst="roundRect">
                                <a:avLst>
                                  <a:gd name="adj" fmla="val 13245"/>
                                </a:avLst>
                              </a:prstGeom>
                              <a:solidFill>
                                <a:srgbClr val="eaec5e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0" name=""/>
                              <p:cNvSpPr/>
                              <p:nvPr/>
                            </p:nvSpPr>
                            <p:spPr>
                              <a:xfrm>
                                <a:off x="4238640" y="4130640"/>
                                <a:ext cx="739800" cy="117000"/>
                              </a:xfrm>
                              <a:prstGeom prst="roundRect">
                                <a:avLst>
                                  <a:gd name="adj" fmla="val 13407"/>
                                </a:avLst>
                              </a:prstGeom>
                              <a:solidFill>
                                <a:srgbClr val="c0c0c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231" name=""/>
                          <p:cNvSpPr/>
                          <p:nvPr/>
                        </p:nvSpPr>
                        <p:spPr>
                          <a:xfrm>
                            <a:off x="4264200" y="4138920"/>
                            <a:ext cx="682560" cy="99720"/>
                          </a:xfrm>
                          <a:prstGeom prst="roundRect">
                            <a:avLst>
                              <a:gd name="adj" fmla="val 15486"/>
                            </a:avLst>
                          </a:prstGeom>
                          <a:solidFill>
                            <a:srgbClr val="3f3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32" name=""/>
                          <p:cNvSpPr/>
                          <p:nvPr/>
                        </p:nvSpPr>
                        <p:spPr>
                          <a:xfrm>
                            <a:off x="4270320" y="4138920"/>
                            <a:ext cx="676440" cy="95040"/>
                          </a:xfrm>
                          <a:prstGeom prst="roundRect">
                            <a:avLst>
                              <a:gd name="adj" fmla="val 16171"/>
                            </a:avLst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600" bIns="39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4954680" y="4308840"/>
                        <a:ext cx="38160" cy="2664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0160" bIns="-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4964040" y="4316760"/>
                        <a:ext cx="20880" cy="108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5" name=""/>
                      <p:cNvSpPr/>
                      <p:nvPr/>
                    </p:nvSpPr>
                    <p:spPr>
                      <a:xfrm flipV="1">
                        <a:off x="4840560" y="4315320"/>
                        <a:ext cx="88560" cy="5760"/>
                      </a:xfrm>
                      <a:prstGeom prst="rect">
                        <a:avLst/>
                      </a:prstGeom>
                      <a:solidFill>
                        <a:srgbClr val="eaec5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040" bIns="-41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36" name=""/>
                  <p:cNvGrpSpPr/>
                  <p:nvPr/>
                </p:nvGrpSpPr>
                <p:grpSpPr>
                  <a:xfrm>
                    <a:off x="4670640" y="4388400"/>
                    <a:ext cx="344520" cy="97920"/>
                    <a:chOff x="4670640" y="4388400"/>
                    <a:chExt cx="344520" cy="97920"/>
                  </a:xfrm>
                </p:grpSpPr>
                <p:sp>
                  <p:nvSpPr>
                    <p:cNvPr id="1237" name=""/>
                    <p:cNvSpPr/>
                    <p:nvPr/>
                  </p:nvSpPr>
                  <p:spPr>
                    <a:xfrm>
                      <a:off x="4670640" y="4391280"/>
                      <a:ext cx="341280" cy="95040"/>
                    </a:xfrm>
                    <a:prstGeom prst="roundRect">
                      <a:avLst>
                        <a:gd name="adj" fmla="val 20583"/>
                      </a:avLst>
                    </a:pr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4673520" y="4388400"/>
                      <a:ext cx="341640" cy="95040"/>
                    </a:xfrm>
                    <a:prstGeom prst="roundRect">
                      <a:avLst>
                        <a:gd name="adj" fmla="val 20583"/>
                      </a:avLst>
                    </a:pr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4695840" y="4399200"/>
                      <a:ext cx="293760" cy="72720"/>
                    </a:xfrm>
                    <a:prstGeom prst="roundRect">
                      <a:avLst>
                        <a:gd name="adj" fmla="val 25921"/>
                      </a:avLst>
                    </a:pr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40" name=""/>
                    <p:cNvGrpSpPr/>
                    <p:nvPr/>
                  </p:nvGrpSpPr>
                  <p:grpSpPr>
                    <a:xfrm>
                      <a:off x="4754520" y="4399200"/>
                      <a:ext cx="7560" cy="72720"/>
                      <a:chOff x="4754520" y="4399200"/>
                      <a:chExt cx="7560" cy="72720"/>
                    </a:xfrm>
                  </p:grpSpPr>
                  <p:sp>
                    <p:nvSpPr>
                      <p:cNvPr id="1241" name=""/>
                      <p:cNvSpPr/>
                      <p:nvPr/>
                    </p:nvSpPr>
                    <p:spPr>
                      <a:xfrm flipH="1">
                        <a:off x="4757040" y="4399200"/>
                        <a:ext cx="468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2" name=""/>
                      <p:cNvSpPr/>
                      <p:nvPr/>
                    </p:nvSpPr>
                    <p:spPr>
                      <a:xfrm flipH="1">
                        <a:off x="4754520" y="4399200"/>
                        <a:ext cx="6480" cy="72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43" name=""/>
                    <p:cNvGrpSpPr/>
                    <p:nvPr/>
                  </p:nvGrpSpPr>
                  <p:grpSpPr>
                    <a:xfrm>
                      <a:off x="4835520" y="4399200"/>
                      <a:ext cx="7560" cy="72720"/>
                      <a:chOff x="4835520" y="4399200"/>
                      <a:chExt cx="7560" cy="72720"/>
                    </a:xfrm>
                  </p:grpSpPr>
                  <p:sp>
                    <p:nvSpPr>
                      <p:cNvPr id="1244" name=""/>
                      <p:cNvSpPr/>
                      <p:nvPr/>
                    </p:nvSpPr>
                    <p:spPr>
                      <a:xfrm flipH="1">
                        <a:off x="4836600" y="4399200"/>
                        <a:ext cx="612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5" name=""/>
                      <p:cNvSpPr/>
                      <p:nvPr/>
                    </p:nvSpPr>
                    <p:spPr>
                      <a:xfrm flipH="1">
                        <a:off x="4835520" y="4399200"/>
                        <a:ext cx="5040" cy="72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46" name=""/>
                    <p:cNvGrpSpPr/>
                    <p:nvPr/>
                  </p:nvGrpSpPr>
                  <p:grpSpPr>
                    <a:xfrm>
                      <a:off x="4919760" y="4399200"/>
                      <a:ext cx="6480" cy="72720"/>
                      <a:chOff x="4919760" y="4399200"/>
                      <a:chExt cx="6480" cy="72720"/>
                    </a:xfrm>
                  </p:grpSpPr>
                  <p:sp>
                    <p:nvSpPr>
                      <p:cNvPr id="1247" name=""/>
                      <p:cNvSpPr/>
                      <p:nvPr/>
                    </p:nvSpPr>
                    <p:spPr>
                      <a:xfrm flipH="1">
                        <a:off x="4921200" y="4399200"/>
                        <a:ext cx="50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8" name=""/>
                      <p:cNvSpPr/>
                      <p:nvPr/>
                    </p:nvSpPr>
                    <p:spPr>
                      <a:xfrm flipH="1">
                        <a:off x="4919760" y="4399200"/>
                        <a:ext cx="6480" cy="72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4195800" y="4598280"/>
                  <a:ext cx="812880" cy="651600"/>
                  <a:chOff x="4195800" y="4598280"/>
                  <a:chExt cx="812880" cy="651600"/>
                </a:xfrm>
              </p:grpSpPr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4195800" y="4599720"/>
                    <a:ext cx="806400" cy="642240"/>
                    <a:chOff x="4195800" y="4599720"/>
                    <a:chExt cx="806400" cy="642240"/>
                  </a:xfrm>
                </p:grpSpPr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4892760" y="4599720"/>
                      <a:ext cx="109440" cy="7272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>
                      <a:off x="4716720" y="4599720"/>
                      <a:ext cx="110880" cy="727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>
                      <a:off x="4543560" y="4599720"/>
                      <a:ext cx="111240" cy="727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>
                      <a:off x="4370400" y="4599720"/>
                      <a:ext cx="109440" cy="727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>
                      <a:off x="4195800" y="4599720"/>
                      <a:ext cx="109440" cy="7272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56" name=""/>
                    <p:cNvGrpSpPr/>
                    <p:nvPr/>
                  </p:nvGrpSpPr>
                  <p:grpSpPr>
                    <a:xfrm>
                      <a:off x="4195800" y="4740480"/>
                      <a:ext cx="806400" cy="74520"/>
                      <a:chOff x="4195800" y="4740480"/>
                      <a:chExt cx="806400" cy="74520"/>
                    </a:xfrm>
                  </p:grpSpPr>
                  <p:sp>
                    <p:nvSpPr>
                      <p:cNvPr id="1257" name=""/>
                      <p:cNvSpPr/>
                      <p:nvPr/>
                    </p:nvSpPr>
                    <p:spPr>
                      <a:xfrm>
                        <a:off x="4892760" y="4740480"/>
                        <a:ext cx="10944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8" name=""/>
                      <p:cNvSpPr/>
                      <p:nvPr/>
                    </p:nvSpPr>
                    <p:spPr>
                      <a:xfrm>
                        <a:off x="4716720" y="4740480"/>
                        <a:ext cx="11088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9" name=""/>
                      <p:cNvSpPr/>
                      <p:nvPr/>
                    </p:nvSpPr>
                    <p:spPr>
                      <a:xfrm>
                        <a:off x="4543560" y="4740480"/>
                        <a:ext cx="11124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0" name=""/>
                      <p:cNvSpPr/>
                      <p:nvPr/>
                    </p:nvSpPr>
                    <p:spPr>
                      <a:xfrm>
                        <a:off x="4370400" y="4740480"/>
                        <a:ext cx="10944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1" name=""/>
                      <p:cNvSpPr/>
                      <p:nvPr/>
                    </p:nvSpPr>
                    <p:spPr>
                      <a:xfrm>
                        <a:off x="4195800" y="4740480"/>
                        <a:ext cx="10944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62" name=""/>
                    <p:cNvGrpSpPr/>
                    <p:nvPr/>
                  </p:nvGrpSpPr>
                  <p:grpSpPr>
                    <a:xfrm>
                      <a:off x="4195800" y="4881960"/>
                      <a:ext cx="806400" cy="74160"/>
                      <a:chOff x="4195800" y="4881960"/>
                      <a:chExt cx="806400" cy="74160"/>
                    </a:xfrm>
                  </p:grpSpPr>
                  <p:sp>
                    <p:nvSpPr>
                      <p:cNvPr id="1263" name=""/>
                      <p:cNvSpPr/>
                      <p:nvPr/>
                    </p:nvSpPr>
                    <p:spPr>
                      <a:xfrm>
                        <a:off x="4892760" y="4881960"/>
                        <a:ext cx="10944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4" name=""/>
                      <p:cNvSpPr/>
                      <p:nvPr/>
                    </p:nvSpPr>
                    <p:spPr>
                      <a:xfrm>
                        <a:off x="4716720" y="4881960"/>
                        <a:ext cx="11088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" name=""/>
                      <p:cNvSpPr/>
                      <p:nvPr/>
                    </p:nvSpPr>
                    <p:spPr>
                      <a:xfrm>
                        <a:off x="4543560" y="4881960"/>
                        <a:ext cx="11124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" name=""/>
                      <p:cNvSpPr/>
                      <p:nvPr/>
                    </p:nvSpPr>
                    <p:spPr>
                      <a:xfrm>
                        <a:off x="4370400" y="4881960"/>
                        <a:ext cx="10944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7" name=""/>
                      <p:cNvSpPr/>
                      <p:nvPr/>
                    </p:nvSpPr>
                    <p:spPr>
                      <a:xfrm>
                        <a:off x="4195800" y="4881960"/>
                        <a:ext cx="10944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8" name=""/>
                    <p:cNvSpPr/>
                    <p:nvPr/>
                  </p:nvSpPr>
                  <p:spPr>
                    <a:xfrm>
                      <a:off x="4892760" y="5023080"/>
                      <a:ext cx="109440" cy="21888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>
                      <a:off x="4716720" y="5023080"/>
                      <a:ext cx="11088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>
                      <a:off x="4543560" y="5023080"/>
                      <a:ext cx="11124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>
                      <a:off x="4370400" y="5023080"/>
                      <a:ext cx="10944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2" name=""/>
                    <p:cNvSpPr/>
                    <p:nvPr/>
                  </p:nvSpPr>
                  <p:spPr>
                    <a:xfrm>
                      <a:off x="4195800" y="5023080"/>
                      <a:ext cx="109440" cy="7596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260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3" name=""/>
                    <p:cNvSpPr/>
                    <p:nvPr/>
                  </p:nvSpPr>
                  <p:spPr>
                    <a:xfrm>
                      <a:off x="4716720" y="5166000"/>
                      <a:ext cx="11088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4" name=""/>
                    <p:cNvSpPr/>
                    <p:nvPr/>
                  </p:nvSpPr>
                  <p:spPr>
                    <a:xfrm>
                      <a:off x="4543560" y="5166000"/>
                      <a:ext cx="11124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5" name=""/>
                    <p:cNvSpPr/>
                    <p:nvPr/>
                  </p:nvSpPr>
                  <p:spPr>
                    <a:xfrm>
                      <a:off x="4370400" y="5166000"/>
                      <a:ext cx="10944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6" name=""/>
                    <p:cNvSpPr/>
                    <p:nvPr/>
                  </p:nvSpPr>
                  <p:spPr>
                    <a:xfrm>
                      <a:off x="4195800" y="5166000"/>
                      <a:ext cx="109440" cy="7596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260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7" name=""/>
                  <p:cNvGrpSpPr/>
                  <p:nvPr/>
                </p:nvGrpSpPr>
                <p:grpSpPr>
                  <a:xfrm>
                    <a:off x="4202280" y="4605840"/>
                    <a:ext cx="806400" cy="644040"/>
                    <a:chOff x="4202280" y="4605840"/>
                    <a:chExt cx="806400" cy="644040"/>
                  </a:xfrm>
                </p:grpSpPr>
                <p:sp>
                  <p:nvSpPr>
                    <p:cNvPr id="1278" name=""/>
                    <p:cNvSpPr/>
                    <p:nvPr/>
                  </p:nvSpPr>
                  <p:spPr>
                    <a:xfrm>
                      <a:off x="4897440" y="4605840"/>
                      <a:ext cx="111240" cy="745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9" name=""/>
                    <p:cNvSpPr/>
                    <p:nvPr/>
                  </p:nvSpPr>
                  <p:spPr>
                    <a:xfrm>
                      <a:off x="4722840" y="4605840"/>
                      <a:ext cx="111240" cy="74520"/>
                    </a:xfrm>
                    <a:prstGeom prst="rect">
                      <a:avLst/>
                    </a:prstGeom>
                    <a:solidFill>
                      <a:srgbClr val="9fbfff"/>
                    </a:solidFill>
                    <a:ln w="12600">
                      <a:solidFill>
                        <a:srgbClr val="9fb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>
                      <a:off x="4550040" y="4605840"/>
                      <a:ext cx="110880" cy="74520"/>
                    </a:xfrm>
                    <a:prstGeom prst="rect">
                      <a:avLst/>
                    </a:prstGeom>
                    <a:solidFill>
                      <a:srgbClr val="9fbfff"/>
                    </a:solidFill>
                    <a:ln w="12600">
                      <a:solidFill>
                        <a:srgbClr val="9fb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1" name=""/>
                    <p:cNvSpPr/>
                    <p:nvPr/>
                  </p:nvSpPr>
                  <p:spPr>
                    <a:xfrm>
                      <a:off x="4376880" y="4605840"/>
                      <a:ext cx="109440" cy="74520"/>
                    </a:xfrm>
                    <a:prstGeom prst="rect">
                      <a:avLst/>
                    </a:prstGeom>
                    <a:solidFill>
                      <a:srgbClr val="9fbfff"/>
                    </a:solidFill>
                    <a:ln w="12600">
                      <a:solidFill>
                        <a:srgbClr val="9fb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4202280" y="4605840"/>
                      <a:ext cx="109440" cy="745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83" name=""/>
                    <p:cNvGrpSpPr/>
                    <p:nvPr/>
                  </p:nvGrpSpPr>
                  <p:grpSpPr>
                    <a:xfrm>
                      <a:off x="4202280" y="4748400"/>
                      <a:ext cx="806400" cy="72720"/>
                      <a:chOff x="4202280" y="4748400"/>
                      <a:chExt cx="806400" cy="72720"/>
                    </a:xfrm>
                  </p:grpSpPr>
                  <p:sp>
                    <p:nvSpPr>
                      <p:cNvPr id="1284" name=""/>
                      <p:cNvSpPr/>
                      <p:nvPr/>
                    </p:nvSpPr>
                    <p:spPr>
                      <a:xfrm>
                        <a:off x="4897440" y="4748400"/>
                        <a:ext cx="1112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5" name=""/>
                      <p:cNvSpPr/>
                      <p:nvPr/>
                    </p:nvSpPr>
                    <p:spPr>
                      <a:xfrm>
                        <a:off x="4722840" y="4748400"/>
                        <a:ext cx="1112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6" name=""/>
                      <p:cNvSpPr/>
                      <p:nvPr/>
                    </p:nvSpPr>
                    <p:spPr>
                      <a:xfrm>
                        <a:off x="4550040" y="4748400"/>
                        <a:ext cx="11088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7" name=""/>
                      <p:cNvSpPr/>
                      <p:nvPr/>
                    </p:nvSpPr>
                    <p:spPr>
                      <a:xfrm>
                        <a:off x="4376880" y="474840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8" name=""/>
                      <p:cNvSpPr/>
                      <p:nvPr/>
                    </p:nvSpPr>
                    <p:spPr>
                      <a:xfrm>
                        <a:off x="4202280" y="474840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89" name=""/>
                    <p:cNvGrpSpPr/>
                    <p:nvPr/>
                  </p:nvGrpSpPr>
                  <p:grpSpPr>
                    <a:xfrm>
                      <a:off x="4202280" y="4891320"/>
                      <a:ext cx="806400" cy="72720"/>
                      <a:chOff x="4202280" y="4891320"/>
                      <a:chExt cx="806400" cy="72720"/>
                    </a:xfrm>
                  </p:grpSpPr>
                  <p:sp>
                    <p:nvSpPr>
                      <p:cNvPr id="1290" name=""/>
                      <p:cNvSpPr/>
                      <p:nvPr/>
                    </p:nvSpPr>
                    <p:spPr>
                      <a:xfrm>
                        <a:off x="4897440" y="4891320"/>
                        <a:ext cx="1112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1" name=""/>
                      <p:cNvSpPr/>
                      <p:nvPr/>
                    </p:nvSpPr>
                    <p:spPr>
                      <a:xfrm>
                        <a:off x="4722840" y="4891320"/>
                        <a:ext cx="1112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2" name=""/>
                      <p:cNvSpPr/>
                      <p:nvPr/>
                    </p:nvSpPr>
                    <p:spPr>
                      <a:xfrm>
                        <a:off x="4550040" y="4891320"/>
                        <a:ext cx="11088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3" name=""/>
                      <p:cNvSpPr/>
                      <p:nvPr/>
                    </p:nvSpPr>
                    <p:spPr>
                      <a:xfrm>
                        <a:off x="4376880" y="489132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4" name=""/>
                      <p:cNvSpPr/>
                      <p:nvPr/>
                    </p:nvSpPr>
                    <p:spPr>
                      <a:xfrm>
                        <a:off x="4202280" y="489132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4897440" y="5031000"/>
                      <a:ext cx="111240" cy="218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4722840" y="5031000"/>
                      <a:ext cx="11124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4550040" y="5031000"/>
                      <a:ext cx="11088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4376880" y="5031000"/>
                      <a:ext cx="10944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4202280" y="5031000"/>
                      <a:ext cx="109440" cy="75960"/>
                    </a:xfrm>
                    <a:prstGeom prst="rect">
                      <a:avLst/>
                    </a:prstGeom>
                    <a:solidFill>
                      <a:srgbClr val="ff5f7f"/>
                    </a:solidFill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4722840" y="5173920"/>
                      <a:ext cx="11124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4550040" y="5173920"/>
                      <a:ext cx="11088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4376880" y="5173920"/>
                      <a:ext cx="10944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4202280" y="5173920"/>
                      <a:ext cx="109440" cy="75960"/>
                    </a:xfrm>
                    <a:prstGeom prst="rect">
                      <a:avLst/>
                    </a:prstGeom>
                    <a:solidFill>
                      <a:srgbClr val="ff5f7f"/>
                    </a:solidFill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4" name=""/>
                  <p:cNvGrpSpPr/>
                  <p:nvPr/>
                </p:nvGrpSpPr>
                <p:grpSpPr>
                  <a:xfrm>
                    <a:off x="4195800" y="4605840"/>
                    <a:ext cx="806400" cy="644040"/>
                    <a:chOff x="4195800" y="4605840"/>
                    <a:chExt cx="806400" cy="644040"/>
                  </a:xfrm>
                </p:grpSpPr>
                <p:sp>
                  <p:nvSpPr>
                    <p:cNvPr id="1305" name=""/>
                    <p:cNvSpPr/>
                    <p:nvPr/>
                  </p:nvSpPr>
                  <p:spPr>
                    <a:xfrm>
                      <a:off x="4892760" y="4605840"/>
                      <a:ext cx="109440" cy="745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6" name=""/>
                    <p:cNvSpPr/>
                    <p:nvPr/>
                  </p:nvSpPr>
                  <p:spPr>
                    <a:xfrm>
                      <a:off x="4716720" y="4605840"/>
                      <a:ext cx="110880" cy="74520"/>
                    </a:xfrm>
                    <a:prstGeom prst="rect">
                      <a:avLst/>
                    </a:prstGeom>
                    <a:solidFill>
                      <a:srgbClr val="9fbfff"/>
                    </a:solidFill>
                    <a:ln w="12600">
                      <a:solidFill>
                        <a:srgbClr val="9fb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7" name=""/>
                    <p:cNvSpPr/>
                    <p:nvPr/>
                  </p:nvSpPr>
                  <p:spPr>
                    <a:xfrm>
                      <a:off x="4543560" y="4605840"/>
                      <a:ext cx="111240" cy="74520"/>
                    </a:xfrm>
                    <a:prstGeom prst="rect">
                      <a:avLst/>
                    </a:prstGeom>
                    <a:solidFill>
                      <a:srgbClr val="9fbfff"/>
                    </a:solidFill>
                    <a:ln w="12600">
                      <a:solidFill>
                        <a:srgbClr val="9fb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>
                      <a:off x="4370400" y="4605840"/>
                      <a:ext cx="109440" cy="74520"/>
                    </a:xfrm>
                    <a:prstGeom prst="rect">
                      <a:avLst/>
                    </a:prstGeom>
                    <a:solidFill>
                      <a:srgbClr val="9fbfff"/>
                    </a:solidFill>
                    <a:ln w="12600">
                      <a:solidFill>
                        <a:srgbClr val="9fb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4195800" y="4605840"/>
                      <a:ext cx="109440" cy="745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720" bIns="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10" name=""/>
                    <p:cNvGrpSpPr/>
                    <p:nvPr/>
                  </p:nvGrpSpPr>
                  <p:grpSpPr>
                    <a:xfrm>
                      <a:off x="4195800" y="4748400"/>
                      <a:ext cx="806400" cy="72720"/>
                      <a:chOff x="4195800" y="4748400"/>
                      <a:chExt cx="806400" cy="72720"/>
                    </a:xfrm>
                  </p:grpSpPr>
                  <p:sp>
                    <p:nvSpPr>
                      <p:cNvPr id="1311" name=""/>
                      <p:cNvSpPr/>
                      <p:nvPr/>
                    </p:nvSpPr>
                    <p:spPr>
                      <a:xfrm>
                        <a:off x="4892760" y="474840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2" name=""/>
                      <p:cNvSpPr/>
                      <p:nvPr/>
                    </p:nvSpPr>
                    <p:spPr>
                      <a:xfrm>
                        <a:off x="4716720" y="4748400"/>
                        <a:ext cx="11088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3" name=""/>
                      <p:cNvSpPr/>
                      <p:nvPr/>
                    </p:nvSpPr>
                    <p:spPr>
                      <a:xfrm>
                        <a:off x="4543560" y="4748400"/>
                        <a:ext cx="1112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4" name=""/>
                      <p:cNvSpPr/>
                      <p:nvPr/>
                    </p:nvSpPr>
                    <p:spPr>
                      <a:xfrm>
                        <a:off x="4370400" y="474840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5" name=""/>
                      <p:cNvSpPr/>
                      <p:nvPr/>
                    </p:nvSpPr>
                    <p:spPr>
                      <a:xfrm>
                        <a:off x="4195800" y="474840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16" name=""/>
                    <p:cNvGrpSpPr/>
                    <p:nvPr/>
                  </p:nvGrpSpPr>
                  <p:grpSpPr>
                    <a:xfrm>
                      <a:off x="4195800" y="4891320"/>
                      <a:ext cx="806400" cy="72720"/>
                      <a:chOff x="4195800" y="4891320"/>
                      <a:chExt cx="806400" cy="72720"/>
                    </a:xfrm>
                  </p:grpSpPr>
                  <p:sp>
                    <p:nvSpPr>
                      <p:cNvPr id="1317" name=""/>
                      <p:cNvSpPr/>
                      <p:nvPr/>
                    </p:nvSpPr>
                    <p:spPr>
                      <a:xfrm>
                        <a:off x="4892760" y="489132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8" name=""/>
                      <p:cNvSpPr/>
                      <p:nvPr/>
                    </p:nvSpPr>
                    <p:spPr>
                      <a:xfrm>
                        <a:off x="4716720" y="4891320"/>
                        <a:ext cx="11088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9" name=""/>
                      <p:cNvSpPr/>
                      <p:nvPr/>
                    </p:nvSpPr>
                    <p:spPr>
                      <a:xfrm>
                        <a:off x="4543560" y="4891320"/>
                        <a:ext cx="1112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4370400" y="489132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4195800" y="4891320"/>
                        <a:ext cx="109440" cy="727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920" bIns="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22" name=""/>
                    <p:cNvSpPr/>
                    <p:nvPr/>
                  </p:nvSpPr>
                  <p:spPr>
                    <a:xfrm>
                      <a:off x="4892760" y="5031000"/>
                      <a:ext cx="109440" cy="21888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>
                      <a:off x="4716720" y="5031000"/>
                      <a:ext cx="11088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4" name=""/>
                    <p:cNvSpPr/>
                    <p:nvPr/>
                  </p:nvSpPr>
                  <p:spPr>
                    <a:xfrm>
                      <a:off x="4543560" y="5031000"/>
                      <a:ext cx="11124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5" name=""/>
                    <p:cNvSpPr/>
                    <p:nvPr/>
                  </p:nvSpPr>
                  <p:spPr>
                    <a:xfrm>
                      <a:off x="4370400" y="5031000"/>
                      <a:ext cx="10944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>
                      <a:off x="4195800" y="5031000"/>
                      <a:ext cx="109440" cy="75960"/>
                    </a:xfrm>
                    <a:prstGeom prst="rect">
                      <a:avLst/>
                    </a:prstGeom>
                    <a:solidFill>
                      <a:srgbClr val="ff5f7f"/>
                    </a:solidFill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7" name=""/>
                    <p:cNvSpPr/>
                    <p:nvPr/>
                  </p:nvSpPr>
                  <p:spPr>
                    <a:xfrm>
                      <a:off x="4716720" y="5173920"/>
                      <a:ext cx="11088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8" name=""/>
                    <p:cNvSpPr/>
                    <p:nvPr/>
                  </p:nvSpPr>
                  <p:spPr>
                    <a:xfrm>
                      <a:off x="4543560" y="5173920"/>
                      <a:ext cx="11124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" name=""/>
                    <p:cNvSpPr/>
                    <p:nvPr/>
                  </p:nvSpPr>
                  <p:spPr>
                    <a:xfrm>
                      <a:off x="4370400" y="5173920"/>
                      <a:ext cx="109440" cy="75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" name=""/>
                    <p:cNvSpPr/>
                    <p:nvPr/>
                  </p:nvSpPr>
                  <p:spPr>
                    <a:xfrm>
                      <a:off x="4195800" y="5173920"/>
                      <a:ext cx="109440" cy="75960"/>
                    </a:xfrm>
                    <a:prstGeom prst="rect">
                      <a:avLst/>
                    </a:prstGeom>
                    <a:solidFill>
                      <a:srgbClr val="ff5f7f"/>
                    </a:solidFill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4202280" y="4599720"/>
                    <a:ext cx="806400" cy="642240"/>
                    <a:chOff x="4202280" y="4599720"/>
                    <a:chExt cx="806400" cy="642240"/>
                  </a:xfrm>
                </p:grpSpPr>
                <p:sp>
                  <p:nvSpPr>
                    <p:cNvPr id="1332" name=""/>
                    <p:cNvSpPr/>
                    <p:nvPr/>
                  </p:nvSpPr>
                  <p:spPr>
                    <a:xfrm>
                      <a:off x="4897440" y="4599720"/>
                      <a:ext cx="111240" cy="7272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>
                      <a:off x="4722840" y="4599720"/>
                      <a:ext cx="111240" cy="727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4" name=""/>
                    <p:cNvSpPr/>
                    <p:nvPr/>
                  </p:nvSpPr>
                  <p:spPr>
                    <a:xfrm>
                      <a:off x="4550040" y="4599720"/>
                      <a:ext cx="110880" cy="727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5" name=""/>
                    <p:cNvSpPr/>
                    <p:nvPr/>
                  </p:nvSpPr>
                  <p:spPr>
                    <a:xfrm>
                      <a:off x="4376880" y="4599720"/>
                      <a:ext cx="109440" cy="727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1260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>
                      <a:off x="4202280" y="4599720"/>
                      <a:ext cx="109440" cy="7272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920" bIns="25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37" name=""/>
                    <p:cNvGrpSpPr/>
                    <p:nvPr/>
                  </p:nvGrpSpPr>
                  <p:grpSpPr>
                    <a:xfrm>
                      <a:off x="4202280" y="4740480"/>
                      <a:ext cx="806400" cy="74520"/>
                      <a:chOff x="4202280" y="4740480"/>
                      <a:chExt cx="806400" cy="74520"/>
                    </a:xfrm>
                  </p:grpSpPr>
                  <p:sp>
                    <p:nvSpPr>
                      <p:cNvPr id="1338" name=""/>
                      <p:cNvSpPr/>
                      <p:nvPr/>
                    </p:nvSpPr>
                    <p:spPr>
                      <a:xfrm>
                        <a:off x="4897440" y="4740480"/>
                        <a:ext cx="11124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9" name=""/>
                      <p:cNvSpPr/>
                      <p:nvPr/>
                    </p:nvSpPr>
                    <p:spPr>
                      <a:xfrm>
                        <a:off x="4722840" y="4740480"/>
                        <a:ext cx="11124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>
                        <a:off x="4550040" y="4740480"/>
                        <a:ext cx="11088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1" name=""/>
                      <p:cNvSpPr/>
                      <p:nvPr/>
                    </p:nvSpPr>
                    <p:spPr>
                      <a:xfrm>
                        <a:off x="4376880" y="4740480"/>
                        <a:ext cx="10944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2" name=""/>
                      <p:cNvSpPr/>
                      <p:nvPr/>
                    </p:nvSpPr>
                    <p:spPr>
                      <a:xfrm>
                        <a:off x="4202280" y="4740480"/>
                        <a:ext cx="109440" cy="7452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720" bIns="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43" name=""/>
                    <p:cNvGrpSpPr/>
                    <p:nvPr/>
                  </p:nvGrpSpPr>
                  <p:grpSpPr>
                    <a:xfrm>
                      <a:off x="4202280" y="4881960"/>
                      <a:ext cx="806400" cy="74160"/>
                      <a:chOff x="4202280" y="4881960"/>
                      <a:chExt cx="806400" cy="74160"/>
                    </a:xfrm>
                  </p:grpSpPr>
                  <p:sp>
                    <p:nvSpPr>
                      <p:cNvPr id="1344" name=""/>
                      <p:cNvSpPr/>
                      <p:nvPr/>
                    </p:nvSpPr>
                    <p:spPr>
                      <a:xfrm>
                        <a:off x="4897440" y="4881960"/>
                        <a:ext cx="11124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5" name=""/>
                      <p:cNvSpPr/>
                      <p:nvPr/>
                    </p:nvSpPr>
                    <p:spPr>
                      <a:xfrm>
                        <a:off x="4722840" y="4881960"/>
                        <a:ext cx="11124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6" name=""/>
                      <p:cNvSpPr/>
                      <p:nvPr/>
                    </p:nvSpPr>
                    <p:spPr>
                      <a:xfrm>
                        <a:off x="4550040" y="4881960"/>
                        <a:ext cx="11088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7" name=""/>
                      <p:cNvSpPr/>
                      <p:nvPr/>
                    </p:nvSpPr>
                    <p:spPr>
                      <a:xfrm>
                        <a:off x="4376880" y="4881960"/>
                        <a:ext cx="10944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8" name=""/>
                      <p:cNvSpPr/>
                      <p:nvPr/>
                    </p:nvSpPr>
                    <p:spPr>
                      <a:xfrm>
                        <a:off x="4202280" y="4881960"/>
                        <a:ext cx="109440" cy="74160"/>
                      </a:xfrm>
                      <a:prstGeom prst="rect">
                        <a:avLst/>
                      </a:prstGeom>
                      <a:solidFill>
                        <a:srgbClr val="3f3f3f"/>
                      </a:solidFill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4897440" y="5023080"/>
                      <a:ext cx="111240" cy="21888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4722840" y="5023080"/>
                      <a:ext cx="11124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4550040" y="5023080"/>
                      <a:ext cx="11088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>
                      <a:off x="4376880" y="5023080"/>
                      <a:ext cx="10944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4202280" y="5023080"/>
                      <a:ext cx="109440" cy="7596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260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>
                      <a:off x="4722840" y="5166000"/>
                      <a:ext cx="11124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>
                      <a:off x="4550040" y="5166000"/>
                      <a:ext cx="11088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4376880" y="5166000"/>
                      <a:ext cx="109440" cy="75960"/>
                    </a:xfrm>
                    <a:prstGeom prst="rect">
                      <a:avLst/>
                    </a:prstGeom>
                    <a:solidFill>
                      <a:srgbClr val="3f3f3f"/>
                    </a:solidFill>
                    <a:ln w="1260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4202280" y="5166000"/>
                      <a:ext cx="109440" cy="7596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260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8" name=""/>
                  <p:cNvGrpSpPr/>
                  <p:nvPr/>
                </p:nvGrpSpPr>
                <p:grpSpPr>
                  <a:xfrm>
                    <a:off x="4195800" y="4598280"/>
                    <a:ext cx="812880" cy="650160"/>
                    <a:chOff x="4195800" y="4598280"/>
                    <a:chExt cx="812880" cy="650160"/>
                  </a:xfrm>
                </p:grpSpPr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4891320" y="4598280"/>
                      <a:ext cx="117360" cy="824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640" bIns="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4716720" y="4598280"/>
                      <a:ext cx="117360" cy="82440"/>
                    </a:xfrm>
                    <a:prstGeom prst="rect">
                      <a:avLst/>
                    </a:prstGeom>
                    <a:solidFill>
                      <a:srgbClr val="3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640" bIns="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4543560" y="4598280"/>
                      <a:ext cx="117360" cy="82440"/>
                    </a:xfrm>
                    <a:prstGeom prst="rect">
                      <a:avLst/>
                    </a:prstGeom>
                    <a:solidFill>
                      <a:srgbClr val="3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640" bIns="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>
                      <a:off x="4370400" y="4598280"/>
                      <a:ext cx="117720" cy="82440"/>
                    </a:xfrm>
                    <a:prstGeom prst="rect">
                      <a:avLst/>
                    </a:prstGeom>
                    <a:solidFill>
                      <a:srgbClr val="3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640" bIns="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4195800" y="4598280"/>
                      <a:ext cx="117360" cy="824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640" bIns="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64" name=""/>
                    <p:cNvGrpSpPr/>
                    <p:nvPr/>
                  </p:nvGrpSpPr>
                  <p:grpSpPr>
                    <a:xfrm>
                      <a:off x="4195800" y="4739400"/>
                      <a:ext cx="812880" cy="82080"/>
                      <a:chOff x="4195800" y="4739400"/>
                      <a:chExt cx="812880" cy="82080"/>
                    </a:xfrm>
                  </p:grpSpPr>
                  <p:sp>
                    <p:nvSpPr>
                      <p:cNvPr id="1365" name=""/>
                      <p:cNvSpPr/>
                      <p:nvPr/>
                    </p:nvSpPr>
                    <p:spPr>
                      <a:xfrm>
                        <a:off x="4891320" y="4739400"/>
                        <a:ext cx="11736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6" name=""/>
                      <p:cNvSpPr/>
                      <p:nvPr/>
                    </p:nvSpPr>
                    <p:spPr>
                      <a:xfrm>
                        <a:off x="4716720" y="4739400"/>
                        <a:ext cx="11736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4543560" y="4739400"/>
                        <a:ext cx="11736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4370400" y="4739400"/>
                        <a:ext cx="11772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4195800" y="4739400"/>
                        <a:ext cx="11736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0" name=""/>
                    <p:cNvGrpSpPr/>
                    <p:nvPr/>
                  </p:nvGrpSpPr>
                  <p:grpSpPr>
                    <a:xfrm>
                      <a:off x="4195800" y="4882320"/>
                      <a:ext cx="812880" cy="82080"/>
                      <a:chOff x="4195800" y="4882320"/>
                      <a:chExt cx="812880" cy="82080"/>
                    </a:xfrm>
                  </p:grpSpPr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4891320" y="4882320"/>
                        <a:ext cx="11736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4716720" y="4882320"/>
                        <a:ext cx="11736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4543560" y="4882320"/>
                        <a:ext cx="11736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>
                        <a:off x="4370400" y="4882320"/>
                        <a:ext cx="11772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4195800" y="4882320"/>
                        <a:ext cx="117360" cy="8208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280" bIns="35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6" name=""/>
                    <p:cNvSpPr/>
                    <p:nvPr/>
                  </p:nvSpPr>
                  <p:spPr>
                    <a:xfrm>
                      <a:off x="4891320" y="5025240"/>
                      <a:ext cx="117360" cy="22320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7" name=""/>
                    <p:cNvSpPr/>
                    <p:nvPr/>
                  </p:nvSpPr>
                  <p:spPr>
                    <a:xfrm>
                      <a:off x="4716720" y="5025240"/>
                      <a:ext cx="117360" cy="806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840" bIns="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4543560" y="5025240"/>
                      <a:ext cx="117360" cy="806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840" bIns="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4370400" y="5025240"/>
                      <a:ext cx="117720" cy="806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840" bIns="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0" name=""/>
                    <p:cNvSpPr/>
                    <p:nvPr/>
                  </p:nvSpPr>
                  <p:spPr>
                    <a:xfrm>
                      <a:off x="4195800" y="5025240"/>
                      <a:ext cx="117360" cy="806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840" bIns="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1" name=""/>
                    <p:cNvSpPr/>
                    <p:nvPr/>
                  </p:nvSpPr>
                  <p:spPr>
                    <a:xfrm>
                      <a:off x="4716720" y="5168160"/>
                      <a:ext cx="117360" cy="802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2" name=""/>
                    <p:cNvSpPr/>
                    <p:nvPr/>
                  </p:nvSpPr>
                  <p:spPr>
                    <a:xfrm>
                      <a:off x="4543560" y="5168160"/>
                      <a:ext cx="117360" cy="802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4370400" y="5168160"/>
                      <a:ext cx="117720" cy="802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4195800" y="5168160"/>
                      <a:ext cx="117360" cy="8028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85" name=""/>
              <p:cNvGrpSpPr/>
              <p:nvPr/>
            </p:nvGrpSpPr>
            <p:grpSpPr>
              <a:xfrm>
                <a:off x="4440240" y="4154040"/>
                <a:ext cx="486000" cy="73800"/>
                <a:chOff x="4440240" y="4154040"/>
                <a:chExt cx="486000" cy="73800"/>
              </a:xfrm>
            </p:grpSpPr>
            <p:grpSp>
              <p:nvGrpSpPr>
                <p:cNvPr id="1386" name=""/>
                <p:cNvGrpSpPr/>
                <p:nvPr/>
              </p:nvGrpSpPr>
              <p:grpSpPr>
                <a:xfrm>
                  <a:off x="4870440" y="4154040"/>
                  <a:ext cx="55800" cy="72360"/>
                  <a:chOff x="4870440" y="4154040"/>
                  <a:chExt cx="55800" cy="72360"/>
                </a:xfrm>
              </p:grpSpPr>
              <p:sp>
                <p:nvSpPr>
                  <p:cNvPr id="1387" name=""/>
                  <p:cNvSpPr/>
                  <p:nvPr/>
                </p:nvSpPr>
                <p:spPr>
                  <a:xfrm>
                    <a:off x="4892760" y="4154040"/>
                    <a:ext cx="316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">
                        <a:moveTo>
                          <a:pt x="0" y="3"/>
                        </a:moveTo>
                        <a:lnTo>
                          <a:pt x="2" y="0"/>
                        </a:lnTo>
                        <a:lnTo>
                          <a:pt x="15" y="0"/>
                        </a:lnTo>
                        <a:lnTo>
                          <a:pt x="19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4872240" y="4221720"/>
                    <a:ext cx="33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8" y="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4881600" y="4158360"/>
                    <a:ext cx="3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5">
                        <a:moveTo>
                          <a:pt x="1" y="0"/>
                        </a:moveTo>
                        <a:lnTo>
                          <a:pt x="1" y="4"/>
                        </a:lnTo>
                        <a:lnTo>
                          <a:pt x="1" y="13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4870440" y="4197960"/>
                    <a:ext cx="50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5">
                        <a:moveTo>
                          <a:pt x="0" y="14"/>
                        </a:moveTo>
                        <a:lnTo>
                          <a:pt x="1" y="1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4913280" y="4197960"/>
                    <a:ext cx="3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4">
                        <a:moveTo>
                          <a:pt x="0" y="10"/>
                        </a:moveTo>
                        <a:lnTo>
                          <a:pt x="0" y="13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923000" y="4158360"/>
                    <a:ext cx="3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6">
                        <a:moveTo>
                          <a:pt x="0" y="4"/>
                        </a:moveTo>
                        <a:lnTo>
                          <a:pt x="1" y="0"/>
                        </a:lnTo>
                        <a:lnTo>
                          <a:pt x="0" y="15"/>
                        </a:lnTo>
                        <a:lnTo>
                          <a:pt x="0" y="13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4881600" y="4188600"/>
                    <a:ext cx="334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1"/>
                        </a:moveTo>
                        <a:lnTo>
                          <a:pt x="4" y="2"/>
                        </a:lnTo>
                        <a:lnTo>
                          <a:pt x="17" y="2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4" name=""/>
                <p:cNvSpPr/>
                <p:nvPr/>
              </p:nvSpPr>
              <p:spPr>
                <a:xfrm>
                  <a:off x="4792680" y="42217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3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1" y="3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5" name=""/>
                <p:cNvGrpSpPr/>
                <p:nvPr/>
              </p:nvGrpSpPr>
              <p:grpSpPr>
                <a:xfrm>
                  <a:off x="4810320" y="4154040"/>
                  <a:ext cx="56880" cy="72360"/>
                  <a:chOff x="4810320" y="4154040"/>
                  <a:chExt cx="56880" cy="7236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4830840" y="4154040"/>
                    <a:ext cx="334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16" y="0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811760" y="4221720"/>
                    <a:ext cx="33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7" y="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4819680" y="4158360"/>
                    <a:ext cx="46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5">
                        <a:moveTo>
                          <a:pt x="1" y="0"/>
                        </a:moveTo>
                        <a:lnTo>
                          <a:pt x="2" y="4"/>
                        </a:lnTo>
                        <a:lnTo>
                          <a:pt x="1" y="13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4810320" y="4197960"/>
                    <a:ext cx="46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5">
                        <a:moveTo>
                          <a:pt x="0" y="14"/>
                        </a:moveTo>
                        <a:lnTo>
                          <a:pt x="1" y="1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4853160" y="4197960"/>
                    <a:ext cx="3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4">
                        <a:moveTo>
                          <a:pt x="0" y="10"/>
                        </a:moveTo>
                        <a:lnTo>
                          <a:pt x="0" y="13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4861080" y="4158360"/>
                    <a:ext cx="6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6">
                        <a:moveTo>
                          <a:pt x="1" y="4"/>
                        </a:moveTo>
                        <a:lnTo>
                          <a:pt x="3" y="0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4821480" y="4188600"/>
                    <a:ext cx="331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1"/>
                        </a:moveTo>
                        <a:lnTo>
                          <a:pt x="4" y="2"/>
                        </a:lnTo>
                        <a:lnTo>
                          <a:pt x="17" y="2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3" name=""/>
                <p:cNvGrpSpPr/>
                <p:nvPr/>
              </p:nvGrpSpPr>
              <p:grpSpPr>
                <a:xfrm>
                  <a:off x="4621320" y="4154040"/>
                  <a:ext cx="55440" cy="72360"/>
                  <a:chOff x="4621320" y="4154040"/>
                  <a:chExt cx="55440" cy="72360"/>
                </a:xfrm>
              </p:grpSpPr>
              <p:sp>
                <p:nvSpPr>
                  <p:cNvPr id="1404" name=""/>
                  <p:cNvSpPr/>
                  <p:nvPr/>
                </p:nvSpPr>
                <p:spPr>
                  <a:xfrm>
                    <a:off x="4641840" y="4154040"/>
                    <a:ext cx="334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16" y="0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4622760" y="4221720"/>
                    <a:ext cx="33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7" y="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4630680" y="4158360"/>
                    <a:ext cx="3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5">
                        <a:moveTo>
                          <a:pt x="1" y="0"/>
                        </a:moveTo>
                        <a:lnTo>
                          <a:pt x="1" y="4"/>
                        </a:lnTo>
                        <a:lnTo>
                          <a:pt x="1" y="13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4621320" y="4197960"/>
                    <a:ext cx="46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5">
                        <a:moveTo>
                          <a:pt x="0" y="14"/>
                        </a:moveTo>
                        <a:lnTo>
                          <a:pt x="1" y="1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662720" y="4197960"/>
                    <a:ext cx="46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0" y="10"/>
                        </a:moveTo>
                        <a:lnTo>
                          <a:pt x="1" y="13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4672080" y="415836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6">
                        <a:moveTo>
                          <a:pt x="1" y="4"/>
                        </a:moveTo>
                        <a:lnTo>
                          <a:pt x="2" y="0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4632480" y="4188600"/>
                    <a:ext cx="331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1"/>
                        </a:moveTo>
                        <a:lnTo>
                          <a:pt x="4" y="2"/>
                        </a:lnTo>
                        <a:lnTo>
                          <a:pt x="17" y="2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1" name=""/>
                <p:cNvGrpSpPr/>
                <p:nvPr/>
              </p:nvGrpSpPr>
              <p:grpSpPr>
                <a:xfrm>
                  <a:off x="4681800" y="4154040"/>
                  <a:ext cx="55440" cy="72360"/>
                  <a:chOff x="4681800" y="4154040"/>
                  <a:chExt cx="55440" cy="72360"/>
                </a:xfrm>
              </p:grpSpPr>
              <p:sp>
                <p:nvSpPr>
                  <p:cNvPr id="1412" name=""/>
                  <p:cNvSpPr/>
                  <p:nvPr/>
                </p:nvSpPr>
                <p:spPr>
                  <a:xfrm>
                    <a:off x="4702320" y="4154040"/>
                    <a:ext cx="33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15" y="0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4683240" y="4221720"/>
                    <a:ext cx="33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7" y="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4691160" y="4158360"/>
                    <a:ext cx="3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5">
                        <a:moveTo>
                          <a:pt x="1" y="0"/>
                        </a:moveTo>
                        <a:lnTo>
                          <a:pt x="1" y="4"/>
                        </a:lnTo>
                        <a:lnTo>
                          <a:pt x="1" y="13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4681800" y="4197960"/>
                    <a:ext cx="46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5">
                        <a:moveTo>
                          <a:pt x="0" y="14"/>
                        </a:moveTo>
                        <a:lnTo>
                          <a:pt x="1" y="1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4722840" y="4197960"/>
                    <a:ext cx="46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0" y="10"/>
                        </a:moveTo>
                        <a:lnTo>
                          <a:pt x="1" y="13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4732560" y="415836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6">
                        <a:moveTo>
                          <a:pt x="1" y="4"/>
                        </a:moveTo>
                        <a:lnTo>
                          <a:pt x="2" y="0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4692600" y="4188600"/>
                    <a:ext cx="32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">
                        <a:moveTo>
                          <a:pt x="0" y="1"/>
                        </a:moveTo>
                        <a:lnTo>
                          <a:pt x="4" y="2"/>
                        </a:lnTo>
                        <a:lnTo>
                          <a:pt x="17" y="2"/>
                        </a:lnTo>
                        <a:lnTo>
                          <a:pt x="19" y="1"/>
                        </a:lnTo>
                        <a:lnTo>
                          <a:pt x="16" y="0"/>
                        </a:lnTo>
                        <a:lnTo>
                          <a:pt x="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9" name=""/>
                <p:cNvGrpSpPr/>
                <p:nvPr/>
              </p:nvGrpSpPr>
              <p:grpSpPr>
                <a:xfrm>
                  <a:off x="4741920" y="4154040"/>
                  <a:ext cx="55440" cy="72360"/>
                  <a:chOff x="4741920" y="4154040"/>
                  <a:chExt cx="55440" cy="72360"/>
                </a:xfrm>
              </p:grpSpPr>
              <p:sp>
                <p:nvSpPr>
                  <p:cNvPr id="1420" name=""/>
                  <p:cNvSpPr/>
                  <p:nvPr/>
                </p:nvSpPr>
                <p:spPr>
                  <a:xfrm>
                    <a:off x="4762440" y="4154040"/>
                    <a:ext cx="320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15" y="0"/>
                        </a:lnTo>
                        <a:lnTo>
                          <a:pt x="19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4743720" y="4221720"/>
                    <a:ext cx="33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7" y="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4751640" y="4158360"/>
                    <a:ext cx="2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5">
                        <a:moveTo>
                          <a:pt x="1" y="0"/>
                        </a:moveTo>
                        <a:lnTo>
                          <a:pt x="1" y="4"/>
                        </a:lnTo>
                        <a:lnTo>
                          <a:pt x="1" y="13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4741920" y="4197960"/>
                    <a:ext cx="46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5">
                        <a:moveTo>
                          <a:pt x="0" y="14"/>
                        </a:moveTo>
                        <a:lnTo>
                          <a:pt x="1" y="1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4783320" y="4197960"/>
                    <a:ext cx="46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0" y="10"/>
                        </a:moveTo>
                        <a:lnTo>
                          <a:pt x="1" y="13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4792680" y="415836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6">
                        <a:moveTo>
                          <a:pt x="1" y="4"/>
                        </a:moveTo>
                        <a:lnTo>
                          <a:pt x="2" y="0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4751640" y="4188600"/>
                    <a:ext cx="331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1"/>
                        </a:moveTo>
                        <a:lnTo>
                          <a:pt x="4" y="2"/>
                        </a:lnTo>
                        <a:lnTo>
                          <a:pt x="18" y="2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7" name=""/>
                <p:cNvGrpSpPr/>
                <p:nvPr/>
              </p:nvGrpSpPr>
              <p:grpSpPr>
                <a:xfrm>
                  <a:off x="4440240" y="4154040"/>
                  <a:ext cx="55800" cy="72360"/>
                  <a:chOff x="4440240" y="4154040"/>
                  <a:chExt cx="55800" cy="7236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4462560" y="4154040"/>
                    <a:ext cx="316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">
                        <a:moveTo>
                          <a:pt x="0" y="3"/>
                        </a:moveTo>
                        <a:lnTo>
                          <a:pt x="2" y="0"/>
                        </a:lnTo>
                        <a:lnTo>
                          <a:pt x="15" y="0"/>
                        </a:lnTo>
                        <a:lnTo>
                          <a:pt x="19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4442040" y="4221720"/>
                    <a:ext cx="33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7" y="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4451400" y="4158360"/>
                    <a:ext cx="3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5">
                        <a:moveTo>
                          <a:pt x="1" y="0"/>
                        </a:moveTo>
                        <a:lnTo>
                          <a:pt x="1" y="4"/>
                        </a:lnTo>
                        <a:lnTo>
                          <a:pt x="1" y="13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4440240" y="4197960"/>
                    <a:ext cx="46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5">
                        <a:moveTo>
                          <a:pt x="0" y="14"/>
                        </a:moveTo>
                        <a:lnTo>
                          <a:pt x="1" y="1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4483080" y="4197960"/>
                    <a:ext cx="3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4">
                        <a:moveTo>
                          <a:pt x="0" y="10"/>
                        </a:moveTo>
                        <a:lnTo>
                          <a:pt x="0" y="13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4491000" y="4158360"/>
                    <a:ext cx="50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6">
                        <a:moveTo>
                          <a:pt x="1" y="4"/>
                        </a:moveTo>
                        <a:lnTo>
                          <a:pt x="2" y="0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4451400" y="4188600"/>
                    <a:ext cx="334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1"/>
                        </a:moveTo>
                        <a:lnTo>
                          <a:pt x="4" y="2"/>
                        </a:lnTo>
                        <a:lnTo>
                          <a:pt x="17" y="2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5" name=""/>
                <p:cNvGrpSpPr/>
                <p:nvPr/>
              </p:nvGrpSpPr>
              <p:grpSpPr>
                <a:xfrm>
                  <a:off x="4500720" y="4154040"/>
                  <a:ext cx="55440" cy="72360"/>
                  <a:chOff x="4500720" y="4154040"/>
                  <a:chExt cx="55440" cy="7236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4521240" y="4154040"/>
                    <a:ext cx="334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16" y="0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4502160" y="4221720"/>
                    <a:ext cx="33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7" y="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4510080" y="4158360"/>
                    <a:ext cx="3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5">
                        <a:moveTo>
                          <a:pt x="1" y="0"/>
                        </a:moveTo>
                        <a:lnTo>
                          <a:pt x="1" y="4"/>
                        </a:lnTo>
                        <a:lnTo>
                          <a:pt x="1" y="13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500720" y="4197960"/>
                    <a:ext cx="46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5">
                        <a:moveTo>
                          <a:pt x="0" y="14"/>
                        </a:moveTo>
                        <a:lnTo>
                          <a:pt x="1" y="1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4541760" y="4197960"/>
                    <a:ext cx="5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0" y="10"/>
                        </a:moveTo>
                        <a:lnTo>
                          <a:pt x="1" y="13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551480" y="415836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6">
                        <a:moveTo>
                          <a:pt x="1" y="4"/>
                        </a:moveTo>
                        <a:lnTo>
                          <a:pt x="2" y="0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4511880" y="4188600"/>
                    <a:ext cx="331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1"/>
                        </a:moveTo>
                        <a:lnTo>
                          <a:pt x="4" y="2"/>
                        </a:lnTo>
                        <a:lnTo>
                          <a:pt x="17" y="2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4560840" y="4154040"/>
                  <a:ext cx="55800" cy="72360"/>
                  <a:chOff x="4560840" y="4154040"/>
                  <a:chExt cx="55800" cy="72360"/>
                </a:xfrm>
              </p:grpSpPr>
              <p:sp>
                <p:nvSpPr>
                  <p:cNvPr id="1444" name=""/>
                  <p:cNvSpPr/>
                  <p:nvPr/>
                </p:nvSpPr>
                <p:spPr>
                  <a:xfrm>
                    <a:off x="4581720" y="4154040"/>
                    <a:ext cx="33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15" y="0"/>
                        </a:lnTo>
                        <a:lnTo>
                          <a:pt x="20" y="3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4562640" y="4221720"/>
                    <a:ext cx="33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17" y="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4570560" y="4158360"/>
                    <a:ext cx="3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5">
                        <a:moveTo>
                          <a:pt x="1" y="0"/>
                        </a:moveTo>
                        <a:lnTo>
                          <a:pt x="1" y="4"/>
                        </a:lnTo>
                        <a:lnTo>
                          <a:pt x="1" y="13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4560840" y="4197960"/>
                    <a:ext cx="50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5">
                        <a:moveTo>
                          <a:pt x="0" y="14"/>
                        </a:moveTo>
                        <a:lnTo>
                          <a:pt x="1" y="1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4602240" y="4197960"/>
                    <a:ext cx="46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4">
                        <a:moveTo>
                          <a:pt x="0" y="10"/>
                        </a:moveTo>
                        <a:lnTo>
                          <a:pt x="1" y="13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4611960" y="4158360"/>
                    <a:ext cx="4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6">
                        <a:moveTo>
                          <a:pt x="1" y="4"/>
                        </a:moveTo>
                        <a:lnTo>
                          <a:pt x="2" y="0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4572000" y="4188600"/>
                    <a:ext cx="31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">
                        <a:moveTo>
                          <a:pt x="0" y="1"/>
                        </a:moveTo>
                        <a:lnTo>
                          <a:pt x="4" y="2"/>
                        </a:lnTo>
                        <a:lnTo>
                          <a:pt x="17" y="2"/>
                        </a:lnTo>
                        <a:lnTo>
                          <a:pt x="19" y="1"/>
                        </a:lnTo>
                        <a:lnTo>
                          <a:pt x="16" y="0"/>
                        </a:lnTo>
                        <a:lnTo>
                          <a:pt x="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51" name=""/>
            <p:cNvGrpSpPr/>
            <p:nvPr/>
          </p:nvGrpSpPr>
          <p:grpSpPr>
            <a:xfrm>
              <a:off x="4213440" y="4614840"/>
              <a:ext cx="757080" cy="618120"/>
              <a:chOff x="4213440" y="4614840"/>
              <a:chExt cx="757080" cy="618120"/>
            </a:xfrm>
          </p:grpSpPr>
          <p:sp>
            <p:nvSpPr>
              <p:cNvPr id="1452" name=""/>
              <p:cNvSpPr/>
              <p:nvPr/>
            </p:nvSpPr>
            <p:spPr>
              <a:xfrm>
                <a:off x="4411800" y="4893840"/>
                <a:ext cx="27000" cy="4860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9" y="0"/>
                    </a:moveTo>
                    <a:lnTo>
                      <a:pt x="15" y="0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15" y="30"/>
                    </a:lnTo>
                    <a:lnTo>
                      <a:pt x="9" y="30"/>
                    </a:lnTo>
                    <a:lnTo>
                      <a:pt x="9" y="24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9" y="11"/>
                    </a:lnTo>
                    <a:lnTo>
                      <a:pt x="9" y="18"/>
                    </a:lnTo>
                    <a:lnTo>
                      <a:pt x="9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767480" y="4893840"/>
                <a:ext cx="21960" cy="4860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4" y="0"/>
                    </a:moveTo>
                    <a:lnTo>
                      <a:pt x="9" y="0"/>
                    </a:lnTo>
                    <a:lnTo>
                      <a:pt x="13" y="4"/>
                    </a:lnTo>
                    <a:lnTo>
                      <a:pt x="13" y="9"/>
                    </a:lnTo>
                    <a:lnTo>
                      <a:pt x="8" y="9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5" y="24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9" y="11"/>
                    </a:lnTo>
                    <a:lnTo>
                      <a:pt x="13" y="15"/>
                    </a:lnTo>
                    <a:lnTo>
                      <a:pt x="13" y="26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591080" y="4757040"/>
                <a:ext cx="22320" cy="48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3" y="0"/>
                    </a:moveTo>
                    <a:lnTo>
                      <a:pt x="10" y="0"/>
                    </a:lnTo>
                    <a:lnTo>
                      <a:pt x="13" y="4"/>
                    </a:lnTo>
                    <a:lnTo>
                      <a:pt x="13" y="12"/>
                    </a:lnTo>
                    <a:lnTo>
                      <a:pt x="11" y="15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8" y="19"/>
                    </a:lnTo>
                    <a:lnTo>
                      <a:pt x="8" y="10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8" y="24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8" y="19"/>
                    </a:lnTo>
                    <a:lnTo>
                      <a:pt x="13" y="19"/>
                    </a:lnTo>
                    <a:lnTo>
                      <a:pt x="13" y="26"/>
                    </a:lnTo>
                    <a:lnTo>
                      <a:pt x="10" y="30"/>
                    </a:lnTo>
                    <a:lnTo>
                      <a:pt x="3" y="30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767480" y="4757040"/>
                <a:ext cx="21960" cy="48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9" y="0"/>
                    </a:moveTo>
                    <a:lnTo>
                      <a:pt x="13" y="4"/>
                    </a:lnTo>
                    <a:lnTo>
                      <a:pt x="13" y="26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8" y="19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8" y="13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5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416480" y="5184360"/>
                <a:ext cx="22320" cy="4860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4" y="0"/>
                    </a:moveTo>
                    <a:lnTo>
                      <a:pt x="9" y="0"/>
                    </a:lnTo>
                    <a:lnTo>
                      <a:pt x="13" y="5"/>
                    </a:lnTo>
                    <a:lnTo>
                      <a:pt x="13" y="25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6"/>
                    </a:lnTo>
                    <a:lnTo>
                      <a:pt x="8" y="6"/>
                    </a:lnTo>
                    <a:lnTo>
                      <a:pt x="8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426200" y="5039640"/>
                <a:ext cx="7920" cy="5040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1" y="31"/>
                    </a:moveTo>
                    <a:lnTo>
                      <a:pt x="4" y="31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592880" y="5039640"/>
                <a:ext cx="21960" cy="504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9"/>
                    </a:moveTo>
                    <a:lnTo>
                      <a:pt x="5" y="9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3" y="31"/>
                    </a:lnTo>
                    <a:lnTo>
                      <a:pt x="13" y="25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765680" y="5039640"/>
                <a:ext cx="25560" cy="5040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5" y="0"/>
                    </a:moveTo>
                    <a:lnTo>
                      <a:pt x="11" y="0"/>
                    </a:lnTo>
                    <a:lnTo>
                      <a:pt x="15" y="4"/>
                    </a:lnTo>
                    <a:lnTo>
                      <a:pt x="15" y="13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15" y="27"/>
                    </a:lnTo>
                    <a:lnTo>
                      <a:pt x="11" y="31"/>
                    </a:lnTo>
                    <a:lnTo>
                      <a:pt x="5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0" y="19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589640" y="489672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3" y="0"/>
                    </a:lnTo>
                    <a:lnTo>
                      <a:pt x="13" y="6"/>
                    </a:lnTo>
                    <a:lnTo>
                      <a:pt x="5" y="6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4" y="15"/>
                    </a:lnTo>
                    <a:lnTo>
                      <a:pt x="14" y="25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9" y="24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418280" y="475704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4" y="0"/>
                    </a:lnTo>
                    <a:lnTo>
                      <a:pt x="14" y="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213440" y="5184360"/>
                <a:ext cx="33120" cy="4860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5" y="0"/>
                    </a:moveTo>
                    <a:lnTo>
                      <a:pt x="14" y="0"/>
                    </a:lnTo>
                    <a:lnTo>
                      <a:pt x="20" y="30"/>
                    </a:lnTo>
                    <a:lnTo>
                      <a:pt x="13" y="30"/>
                    </a:lnTo>
                    <a:lnTo>
                      <a:pt x="12" y="24"/>
                    </a:lnTo>
                    <a:lnTo>
                      <a:pt x="12" y="19"/>
                    </a:lnTo>
                    <a:lnTo>
                      <a:pt x="10" y="5"/>
                    </a:lnTo>
                    <a:lnTo>
                      <a:pt x="7" y="19"/>
                    </a:lnTo>
                    <a:lnTo>
                      <a:pt x="12" y="19"/>
                    </a:lnTo>
                    <a:lnTo>
                      <a:pt x="12" y="24"/>
                    </a:lnTo>
                    <a:lnTo>
                      <a:pt x="7" y="24"/>
                    </a:lnTo>
                    <a:lnTo>
                      <a:pt x="7" y="30"/>
                    </a:lnTo>
                    <a:lnTo>
                      <a:pt x="0" y="3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4235400" y="4757040"/>
                <a:ext cx="41400" cy="50760"/>
                <a:chOff x="4235400" y="4757040"/>
                <a:chExt cx="41400" cy="5076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4243320" y="4757040"/>
                  <a:ext cx="25560" cy="50760"/>
                </a:xfrm>
                <a:custGeom>
                  <a:avLst/>
                  <a:gdLst/>
                  <a:ahLst/>
                  <a:rect l="l" t="t" r="r" b="b"/>
                  <a:pathLst>
                    <a:path w="16" h="32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235400" y="4757040"/>
                  <a:ext cx="11160" cy="2196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2" y="0"/>
                      </a:move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4" y="11"/>
                      </a:lnTo>
                      <a:lnTo>
                        <a:pt x="2" y="11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6" y="11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1"/>
                      </a:lnTo>
                      <a:lnTo>
                        <a:pt x="0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265640" y="4783680"/>
                  <a:ext cx="11160" cy="2376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2" y="0"/>
                      </a:moveTo>
                      <a:lnTo>
                        <a:pt x="4" y="0"/>
                      </a:lnTo>
                      <a:lnTo>
                        <a:pt x="6" y="2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6" y="11"/>
                      </a:lnTo>
                      <a:lnTo>
                        <a:pt x="4" y="14"/>
                      </a:lnTo>
                      <a:lnTo>
                        <a:pt x="2" y="14"/>
                      </a:lnTo>
                      <a:lnTo>
                        <a:pt x="0" y="11"/>
                      </a:lnTo>
                      <a:lnTo>
                        <a:pt x="0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7" name=""/>
              <p:cNvSpPr/>
              <p:nvPr/>
            </p:nvSpPr>
            <p:spPr>
              <a:xfrm>
                <a:off x="4213440" y="4614840"/>
                <a:ext cx="39600" cy="5040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0" y="31"/>
                    </a:moveTo>
                    <a:lnTo>
                      <a:pt x="8" y="31"/>
                    </a:lnTo>
                    <a:lnTo>
                      <a:pt x="8" y="15"/>
                    </a:lnTo>
                    <a:lnTo>
                      <a:pt x="11" y="31"/>
                    </a:lnTo>
                    <a:lnTo>
                      <a:pt x="14" y="31"/>
                    </a:lnTo>
                    <a:lnTo>
                      <a:pt x="17" y="15"/>
                    </a:lnTo>
                    <a:lnTo>
                      <a:pt x="17" y="31"/>
                    </a:lnTo>
                    <a:lnTo>
                      <a:pt x="24" y="31"/>
                    </a:lnTo>
                    <a:lnTo>
                      <a:pt x="24" y="0"/>
                    </a:lnTo>
                    <a:lnTo>
                      <a:pt x="14" y="0"/>
                    </a:lnTo>
                    <a:lnTo>
                      <a:pt x="12" y="1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270320" y="461592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5" y="0"/>
                    </a:moveTo>
                    <a:lnTo>
                      <a:pt x="11" y="0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6" y="24"/>
                    </a:lnTo>
                    <a:lnTo>
                      <a:pt x="10" y="24"/>
                    </a:lnTo>
                    <a:lnTo>
                      <a:pt x="10" y="17"/>
                    </a:lnTo>
                    <a:lnTo>
                      <a:pt x="16" y="17"/>
                    </a:lnTo>
                    <a:lnTo>
                      <a:pt x="16" y="26"/>
                    </a:lnTo>
                    <a:lnTo>
                      <a:pt x="11" y="30"/>
                    </a:lnTo>
                    <a:lnTo>
                      <a:pt x="5" y="30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4389480" y="4614840"/>
                <a:ext cx="79560" cy="51480"/>
                <a:chOff x="4389480" y="4614840"/>
                <a:chExt cx="79560" cy="5148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4443480" y="4615920"/>
                  <a:ext cx="25560" cy="50400"/>
                </a:xfrm>
                <a:custGeom>
                  <a:avLst/>
                  <a:gdLst/>
                  <a:ahLst/>
                  <a:rect l="l" t="t" r="r" b="b"/>
                  <a:pathLst>
                    <a:path w="16" h="32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5" y="3"/>
                      </a:lnTo>
                      <a:lnTo>
                        <a:pt x="15" y="12"/>
                      </a:lnTo>
                      <a:lnTo>
                        <a:pt x="12" y="16"/>
                      </a:lnTo>
                      <a:lnTo>
                        <a:pt x="15" y="19"/>
                      </a:lnTo>
                      <a:lnTo>
                        <a:pt x="15" y="31"/>
                      </a:lnTo>
                      <a:lnTo>
                        <a:pt x="9" y="31"/>
                      </a:lnTo>
                      <a:lnTo>
                        <a:pt x="9" y="19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6" y="6"/>
                      </a:lnTo>
                      <a:lnTo>
                        <a:pt x="9" y="6"/>
                      </a:lnTo>
                      <a:lnTo>
                        <a:pt x="9" y="13"/>
                      </a:lnTo>
                      <a:lnTo>
                        <a:pt x="9" y="19"/>
                      </a:lnTo>
                      <a:lnTo>
                        <a:pt x="6" y="19"/>
                      </a:lnTo>
                      <a:lnTo>
                        <a:pt x="6" y="31"/>
                      </a:lnTo>
                      <a:lnTo>
                        <a:pt x="0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389480" y="4614840"/>
                  <a:ext cx="38160" cy="5040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0" y="31"/>
                      </a:moveTo>
                      <a:lnTo>
                        <a:pt x="7" y="31"/>
                      </a:lnTo>
                      <a:lnTo>
                        <a:pt x="7" y="15"/>
                      </a:lnTo>
                      <a:lnTo>
                        <a:pt x="10" y="31"/>
                      </a:lnTo>
                      <a:lnTo>
                        <a:pt x="13" y="31"/>
                      </a:lnTo>
                      <a:lnTo>
                        <a:pt x="16" y="15"/>
                      </a:lnTo>
                      <a:lnTo>
                        <a:pt x="16" y="31"/>
                      </a:lnTo>
                      <a:lnTo>
                        <a:pt x="23" y="31"/>
                      </a:lnTo>
                      <a:lnTo>
                        <a:pt x="23" y="0"/>
                      </a:lnTo>
                      <a:lnTo>
                        <a:pt x="13" y="0"/>
                      </a:lnTo>
                      <a:lnTo>
                        <a:pt x="11" y="1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2" name=""/>
              <p:cNvSpPr/>
              <p:nvPr/>
            </p:nvSpPr>
            <p:spPr>
              <a:xfrm>
                <a:off x="4262400" y="5184360"/>
                <a:ext cx="27000" cy="4860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5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6" y="24"/>
                    </a:lnTo>
                    <a:lnTo>
                      <a:pt x="10" y="24"/>
                    </a:lnTo>
                    <a:lnTo>
                      <a:pt x="10" y="17"/>
                    </a:lnTo>
                    <a:lnTo>
                      <a:pt x="16" y="17"/>
                    </a:lnTo>
                    <a:lnTo>
                      <a:pt x="16" y="26"/>
                    </a:lnTo>
                    <a:lnTo>
                      <a:pt x="12" y="30"/>
                    </a:lnTo>
                    <a:lnTo>
                      <a:pt x="5" y="30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240440" y="5039640"/>
                <a:ext cx="25200" cy="5040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4" y="0"/>
                    </a:moveTo>
                    <a:lnTo>
                      <a:pt x="11" y="0"/>
                    </a:lnTo>
                    <a:lnTo>
                      <a:pt x="15" y="4"/>
                    </a:lnTo>
                    <a:lnTo>
                      <a:pt x="15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5" y="25"/>
                    </a:lnTo>
                    <a:lnTo>
                      <a:pt x="10" y="25"/>
                    </a:lnTo>
                    <a:lnTo>
                      <a:pt x="10" y="18"/>
                    </a:lnTo>
                    <a:lnTo>
                      <a:pt x="15" y="18"/>
                    </a:lnTo>
                    <a:lnTo>
                      <a:pt x="15" y="26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934160" y="5119200"/>
                <a:ext cx="34920" cy="3456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7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7" y="21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934160" y="4917600"/>
                <a:ext cx="34920" cy="288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14" y="0"/>
                    </a:moveTo>
                    <a:lnTo>
                      <a:pt x="21" y="0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7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932360" y="4764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0" y="0"/>
                    </a:moveTo>
                    <a:lnTo>
                      <a:pt x="9" y="0"/>
                    </a:lnTo>
                    <a:lnTo>
                      <a:pt x="11" y="5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16" y="9"/>
                    </a:lnTo>
                    <a:lnTo>
                      <a:pt x="23" y="20"/>
                    </a:lnTo>
                    <a:lnTo>
                      <a:pt x="14" y="20"/>
                    </a:lnTo>
                    <a:lnTo>
                      <a:pt x="11" y="14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7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7" name=""/>
              <p:cNvGrpSpPr/>
              <p:nvPr/>
            </p:nvGrpSpPr>
            <p:grpSpPr>
              <a:xfrm>
                <a:off x="4734000" y="4614840"/>
                <a:ext cx="88920" cy="50400"/>
                <a:chOff x="4734000" y="4614840"/>
                <a:chExt cx="88920" cy="50400"/>
              </a:xfrm>
            </p:grpSpPr>
            <p:sp>
              <p:nvSpPr>
                <p:cNvPr id="1478" name=""/>
                <p:cNvSpPr/>
                <p:nvPr/>
              </p:nvSpPr>
              <p:spPr>
                <a:xfrm>
                  <a:off x="4734000" y="4614840"/>
                  <a:ext cx="38160" cy="5040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0" y="31"/>
                      </a:moveTo>
                      <a:lnTo>
                        <a:pt x="7" y="31"/>
                      </a:lnTo>
                      <a:lnTo>
                        <a:pt x="7" y="15"/>
                      </a:lnTo>
                      <a:lnTo>
                        <a:pt x="10" y="31"/>
                      </a:lnTo>
                      <a:lnTo>
                        <a:pt x="13" y="31"/>
                      </a:lnTo>
                      <a:lnTo>
                        <a:pt x="16" y="15"/>
                      </a:lnTo>
                      <a:lnTo>
                        <a:pt x="16" y="31"/>
                      </a:lnTo>
                      <a:lnTo>
                        <a:pt x="23" y="31"/>
                      </a:lnTo>
                      <a:lnTo>
                        <a:pt x="23" y="0"/>
                      </a:lnTo>
                      <a:lnTo>
                        <a:pt x="14" y="0"/>
                      </a:lnTo>
                      <a:lnTo>
                        <a:pt x="12" y="1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788000" y="462060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21" y="7"/>
                      </a:lnTo>
                      <a:lnTo>
                        <a:pt x="21" y="14"/>
                      </a:lnTo>
                      <a:lnTo>
                        <a:pt x="14" y="14"/>
                      </a:lnTo>
                      <a:lnTo>
                        <a:pt x="14" y="21"/>
                      </a:lnTo>
                      <a:lnTo>
                        <a:pt x="7" y="21"/>
                      </a:lnTo>
                      <a:lnTo>
                        <a:pt x="7" y="14"/>
                      </a:lnTo>
                      <a:lnTo>
                        <a:pt x="0" y="14"/>
                      </a:lnTo>
                      <a:lnTo>
                        <a:pt x="0" y="7"/>
                      </a:lnTo>
                      <a:lnTo>
                        <a:pt x="7" y="7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0" name=""/>
              <p:cNvGrpSpPr/>
              <p:nvPr/>
            </p:nvGrpSpPr>
            <p:grpSpPr>
              <a:xfrm>
                <a:off x="4559400" y="4614840"/>
                <a:ext cx="88920" cy="50400"/>
                <a:chOff x="4559400" y="4614840"/>
                <a:chExt cx="88920" cy="50400"/>
              </a:xfrm>
            </p:grpSpPr>
            <p:sp>
              <p:nvSpPr>
                <p:cNvPr id="1481" name=""/>
                <p:cNvSpPr/>
                <p:nvPr/>
              </p:nvSpPr>
              <p:spPr>
                <a:xfrm>
                  <a:off x="4559400" y="4614840"/>
                  <a:ext cx="38160" cy="5040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0" y="31"/>
                      </a:moveTo>
                      <a:lnTo>
                        <a:pt x="7" y="31"/>
                      </a:lnTo>
                      <a:lnTo>
                        <a:pt x="7" y="15"/>
                      </a:lnTo>
                      <a:lnTo>
                        <a:pt x="10" y="31"/>
                      </a:lnTo>
                      <a:lnTo>
                        <a:pt x="13" y="31"/>
                      </a:lnTo>
                      <a:lnTo>
                        <a:pt x="16" y="15"/>
                      </a:lnTo>
                      <a:lnTo>
                        <a:pt x="16" y="31"/>
                      </a:lnTo>
                      <a:lnTo>
                        <a:pt x="23" y="31"/>
                      </a:lnTo>
                      <a:lnTo>
                        <a:pt x="23" y="0"/>
                      </a:lnTo>
                      <a:lnTo>
                        <a:pt x="14" y="0"/>
                      </a:lnTo>
                      <a:lnTo>
                        <a:pt x="11" y="1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4614840" y="4636440"/>
                  <a:ext cx="33480" cy="2880"/>
                </a:xfrm>
                <a:custGeom>
                  <a:avLst/>
                  <a:gdLst/>
                  <a:ahLst/>
                  <a:rect l="l" t="t" r="r" b="b"/>
                  <a:pathLst>
                    <a:path w="21" h="2">
                      <a:moveTo>
                        <a:pt x="14" y="0"/>
                      </a:moveTo>
                      <a:lnTo>
                        <a:pt x="20" y="0"/>
                      </a:lnTo>
                      <a:lnTo>
                        <a:pt x="20" y="1"/>
                      </a:lnTo>
                      <a:lnTo>
                        <a:pt x="14" y="1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3" name=""/>
              <p:cNvGrpSpPr/>
              <p:nvPr/>
            </p:nvGrpSpPr>
            <p:grpSpPr>
              <a:xfrm>
                <a:off x="4935600" y="4619160"/>
                <a:ext cx="34920" cy="42120"/>
                <a:chOff x="4935600" y="4619160"/>
                <a:chExt cx="34920" cy="4212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4935600" y="4637880"/>
                  <a:ext cx="34920" cy="2880"/>
                </a:xfrm>
                <a:custGeom>
                  <a:avLst/>
                  <a:gdLst/>
                  <a:ahLst/>
                  <a:rect l="l" t="t" r="r" b="b"/>
                  <a:pathLst>
                    <a:path w="22" h="2">
                      <a:moveTo>
                        <a:pt x="14" y="0"/>
                      </a:moveTo>
                      <a:lnTo>
                        <a:pt x="21" y="0"/>
                      </a:lnTo>
                      <a:lnTo>
                        <a:pt x="21" y="1"/>
                      </a:lnTo>
                      <a:lnTo>
                        <a:pt x="14" y="1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4950000" y="46191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4950000" y="465696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4213440" y="489528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52" h="28">
                    <a:moveTo>
                      <a:pt x="0" y="7"/>
                    </a:moveTo>
                    <a:lnTo>
                      <a:pt x="10" y="7"/>
                    </a:lnTo>
                    <a:lnTo>
                      <a:pt x="16" y="15"/>
                    </a:lnTo>
                    <a:lnTo>
                      <a:pt x="28" y="0"/>
                    </a:lnTo>
                    <a:lnTo>
                      <a:pt x="51" y="0"/>
                    </a:lnTo>
                    <a:lnTo>
                      <a:pt x="51" y="7"/>
                    </a:lnTo>
                    <a:lnTo>
                      <a:pt x="31" y="7"/>
                    </a:lnTo>
                    <a:lnTo>
                      <a:pt x="16" y="2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600800" y="5206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9" name=""/>
              <p:cNvGrpSpPr/>
              <p:nvPr/>
            </p:nvGrpSpPr>
            <p:grpSpPr>
              <a:xfrm>
                <a:off x="4761000" y="5193720"/>
                <a:ext cx="34920" cy="27720"/>
                <a:chOff x="4761000" y="5193720"/>
                <a:chExt cx="34920" cy="2772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4761000" y="5193720"/>
                  <a:ext cx="34920" cy="2880"/>
                </a:xfrm>
                <a:custGeom>
                  <a:avLst/>
                  <a:gdLst/>
                  <a:ahLst/>
                  <a:rect l="l" t="t" r="r" b="b"/>
                  <a:pathLst>
                    <a:path w="22" h="2">
                      <a:moveTo>
                        <a:pt x="14" y="0"/>
                      </a:moveTo>
                      <a:lnTo>
                        <a:pt x="21" y="0"/>
                      </a:lnTo>
                      <a:lnTo>
                        <a:pt x="21" y="1"/>
                      </a:lnTo>
                      <a:lnTo>
                        <a:pt x="14" y="1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4761000" y="5218920"/>
                  <a:ext cx="34920" cy="2520"/>
                </a:xfrm>
                <a:custGeom>
                  <a:avLst/>
                  <a:gdLst/>
                  <a:ahLst/>
                  <a:rect l="l" t="t" r="r" b="b"/>
                  <a:pathLst>
                    <a:path w="22" h="2">
                      <a:moveTo>
                        <a:pt x="14" y="0"/>
                      </a:moveTo>
                      <a:lnTo>
                        <a:pt x="21" y="0"/>
                      </a:lnTo>
                      <a:lnTo>
                        <a:pt x="21" y="1"/>
                      </a:lnTo>
                      <a:lnTo>
                        <a:pt x="14" y="1"/>
                      </a:lnTo>
                      <a:lnTo>
                        <a:pt x="7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2" name=""/>
          <p:cNvSpPr/>
          <p:nvPr/>
        </p:nvSpPr>
        <p:spPr>
          <a:xfrm>
            <a:off x="6137280" y="170964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222880" y="170964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051680" y="170964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765680" y="170964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680080" y="170964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594480" y="190332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508880" y="170964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966080" y="170964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7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527880" y="2673360"/>
            <a:ext cx="175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cdcd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446640" y="1822320"/>
            <a:ext cx="915840" cy="687600"/>
          </a:xfrm>
          <a:custGeom>
            <a:avLst/>
            <a:gdLst/>
            <a:ahLst/>
            <a:rect l="l" t="t" r="r" b="b"/>
            <a:pathLst>
              <a:path w="577" h="433">
                <a:moveTo>
                  <a:pt x="0" y="107"/>
                </a:moveTo>
                <a:lnTo>
                  <a:pt x="467" y="107"/>
                </a:lnTo>
                <a:lnTo>
                  <a:pt x="467" y="0"/>
                </a:lnTo>
                <a:lnTo>
                  <a:pt x="576" y="217"/>
                </a:lnTo>
                <a:lnTo>
                  <a:pt x="467" y="432"/>
                </a:lnTo>
                <a:lnTo>
                  <a:pt x="467" y="324"/>
                </a:lnTo>
                <a:lnTo>
                  <a:pt x="0" y="324"/>
                </a:lnTo>
              </a:path>
            </a:pathLst>
          </a:custGeom>
          <a:solidFill>
            <a:srgbClr val="ccb3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137280" y="190332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242040" y="17096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222880" y="190332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327640" y="17096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051680" y="190332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156440" y="17096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765680" y="190332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70440" y="17096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680080" y="190332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784840" y="17096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594480" y="170964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699240" y="17096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508880" y="190332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3640" y="17096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966080" y="190332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7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70840" y="17096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554880" y="422280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40"/>
                </a:moveTo>
                <a:lnTo>
                  <a:pt x="129" y="553"/>
                </a:lnTo>
                <a:lnTo>
                  <a:pt x="137" y="565"/>
                </a:lnTo>
                <a:lnTo>
                  <a:pt x="151" y="568"/>
                </a:lnTo>
                <a:lnTo>
                  <a:pt x="158" y="568"/>
                </a:lnTo>
                <a:lnTo>
                  <a:pt x="171" y="565"/>
                </a:lnTo>
                <a:lnTo>
                  <a:pt x="181" y="553"/>
                </a:lnTo>
                <a:lnTo>
                  <a:pt x="184" y="540"/>
                </a:lnTo>
                <a:lnTo>
                  <a:pt x="184" y="331"/>
                </a:lnTo>
                <a:lnTo>
                  <a:pt x="184" y="169"/>
                </a:lnTo>
                <a:lnTo>
                  <a:pt x="184" y="164"/>
                </a:lnTo>
                <a:lnTo>
                  <a:pt x="189" y="162"/>
                </a:lnTo>
                <a:lnTo>
                  <a:pt x="193" y="164"/>
                </a:lnTo>
                <a:lnTo>
                  <a:pt x="195" y="169"/>
                </a:lnTo>
                <a:lnTo>
                  <a:pt x="195" y="320"/>
                </a:lnTo>
                <a:lnTo>
                  <a:pt x="197" y="328"/>
                </a:lnTo>
                <a:lnTo>
                  <a:pt x="203" y="335"/>
                </a:lnTo>
                <a:lnTo>
                  <a:pt x="212" y="337"/>
                </a:lnTo>
                <a:lnTo>
                  <a:pt x="221" y="335"/>
                </a:lnTo>
                <a:lnTo>
                  <a:pt x="227" y="328"/>
                </a:lnTo>
                <a:lnTo>
                  <a:pt x="229" y="320"/>
                </a:lnTo>
                <a:lnTo>
                  <a:pt x="229" y="140"/>
                </a:lnTo>
                <a:lnTo>
                  <a:pt x="227" y="131"/>
                </a:lnTo>
                <a:lnTo>
                  <a:pt x="221" y="123"/>
                </a:lnTo>
                <a:lnTo>
                  <a:pt x="212" y="121"/>
                </a:lnTo>
                <a:lnTo>
                  <a:pt x="17" y="121"/>
                </a:lnTo>
                <a:lnTo>
                  <a:pt x="8" y="123"/>
                </a:lnTo>
                <a:lnTo>
                  <a:pt x="2" y="131"/>
                </a:lnTo>
                <a:lnTo>
                  <a:pt x="0" y="140"/>
                </a:lnTo>
                <a:lnTo>
                  <a:pt x="0" y="320"/>
                </a:lnTo>
                <a:lnTo>
                  <a:pt x="2" y="328"/>
                </a:lnTo>
                <a:lnTo>
                  <a:pt x="8" y="335"/>
                </a:lnTo>
                <a:lnTo>
                  <a:pt x="17" y="337"/>
                </a:lnTo>
                <a:lnTo>
                  <a:pt x="26" y="335"/>
                </a:lnTo>
                <a:lnTo>
                  <a:pt x="32" y="328"/>
                </a:lnTo>
                <a:lnTo>
                  <a:pt x="34" y="320"/>
                </a:lnTo>
                <a:lnTo>
                  <a:pt x="34" y="169"/>
                </a:lnTo>
                <a:lnTo>
                  <a:pt x="36" y="164"/>
                </a:lnTo>
                <a:lnTo>
                  <a:pt x="40" y="162"/>
                </a:lnTo>
                <a:lnTo>
                  <a:pt x="44" y="164"/>
                </a:lnTo>
                <a:lnTo>
                  <a:pt x="44" y="169"/>
                </a:lnTo>
                <a:lnTo>
                  <a:pt x="44" y="331"/>
                </a:lnTo>
                <a:lnTo>
                  <a:pt x="44" y="540"/>
                </a:lnTo>
                <a:lnTo>
                  <a:pt x="48" y="553"/>
                </a:lnTo>
                <a:lnTo>
                  <a:pt x="58" y="565"/>
                </a:lnTo>
                <a:lnTo>
                  <a:pt x="71" y="568"/>
                </a:lnTo>
                <a:lnTo>
                  <a:pt x="78" y="568"/>
                </a:lnTo>
                <a:lnTo>
                  <a:pt x="91" y="565"/>
                </a:lnTo>
                <a:lnTo>
                  <a:pt x="100" y="553"/>
                </a:lnTo>
                <a:lnTo>
                  <a:pt x="102" y="540"/>
                </a:lnTo>
                <a:lnTo>
                  <a:pt x="102" y="343"/>
                </a:lnTo>
                <a:lnTo>
                  <a:pt x="106" y="335"/>
                </a:lnTo>
                <a:lnTo>
                  <a:pt x="114" y="331"/>
                </a:lnTo>
                <a:lnTo>
                  <a:pt x="123" y="335"/>
                </a:lnTo>
                <a:lnTo>
                  <a:pt x="127" y="343"/>
                </a:lnTo>
                <a:lnTo>
                  <a:pt x="127" y="540"/>
                </a:lnTo>
                <a:lnTo>
                  <a:pt x="64" y="53"/>
                </a:lnTo>
                <a:lnTo>
                  <a:pt x="68" y="35"/>
                </a:lnTo>
                <a:lnTo>
                  <a:pt x="74" y="20"/>
                </a:lnTo>
                <a:lnTo>
                  <a:pt x="90" y="8"/>
                </a:lnTo>
                <a:lnTo>
                  <a:pt x="106" y="0"/>
                </a:lnTo>
                <a:lnTo>
                  <a:pt x="123" y="0"/>
                </a:lnTo>
                <a:lnTo>
                  <a:pt x="139" y="8"/>
                </a:lnTo>
                <a:lnTo>
                  <a:pt x="153" y="20"/>
                </a:lnTo>
                <a:lnTo>
                  <a:pt x="161" y="35"/>
                </a:lnTo>
                <a:lnTo>
                  <a:pt x="165" y="53"/>
                </a:lnTo>
                <a:lnTo>
                  <a:pt x="161" y="72"/>
                </a:lnTo>
                <a:lnTo>
                  <a:pt x="153" y="90"/>
                </a:lnTo>
                <a:lnTo>
                  <a:pt x="139" y="101"/>
                </a:lnTo>
                <a:lnTo>
                  <a:pt x="123" y="107"/>
                </a:lnTo>
                <a:lnTo>
                  <a:pt x="106" y="107"/>
                </a:lnTo>
                <a:lnTo>
                  <a:pt x="90" y="101"/>
                </a:lnTo>
                <a:lnTo>
                  <a:pt x="74" y="90"/>
                </a:lnTo>
                <a:lnTo>
                  <a:pt x="68" y="72"/>
                </a:lnTo>
                <a:lnTo>
                  <a:pt x="64" y="53"/>
                </a:lnTo>
                <a:lnTo>
                  <a:pt x="127" y="54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012080" y="422280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40"/>
                </a:moveTo>
                <a:lnTo>
                  <a:pt x="129" y="553"/>
                </a:lnTo>
                <a:lnTo>
                  <a:pt x="137" y="565"/>
                </a:lnTo>
                <a:lnTo>
                  <a:pt x="151" y="568"/>
                </a:lnTo>
                <a:lnTo>
                  <a:pt x="158" y="568"/>
                </a:lnTo>
                <a:lnTo>
                  <a:pt x="171" y="565"/>
                </a:lnTo>
                <a:lnTo>
                  <a:pt x="181" y="553"/>
                </a:lnTo>
                <a:lnTo>
                  <a:pt x="184" y="540"/>
                </a:lnTo>
                <a:lnTo>
                  <a:pt x="184" y="331"/>
                </a:lnTo>
                <a:lnTo>
                  <a:pt x="184" y="169"/>
                </a:lnTo>
                <a:lnTo>
                  <a:pt x="184" y="164"/>
                </a:lnTo>
                <a:lnTo>
                  <a:pt x="189" y="162"/>
                </a:lnTo>
                <a:lnTo>
                  <a:pt x="193" y="164"/>
                </a:lnTo>
                <a:lnTo>
                  <a:pt x="195" y="169"/>
                </a:lnTo>
                <a:lnTo>
                  <a:pt x="195" y="320"/>
                </a:lnTo>
                <a:lnTo>
                  <a:pt x="197" y="328"/>
                </a:lnTo>
                <a:lnTo>
                  <a:pt x="203" y="335"/>
                </a:lnTo>
                <a:lnTo>
                  <a:pt x="212" y="337"/>
                </a:lnTo>
                <a:lnTo>
                  <a:pt x="221" y="335"/>
                </a:lnTo>
                <a:lnTo>
                  <a:pt x="227" y="328"/>
                </a:lnTo>
                <a:lnTo>
                  <a:pt x="229" y="320"/>
                </a:lnTo>
                <a:lnTo>
                  <a:pt x="229" y="140"/>
                </a:lnTo>
                <a:lnTo>
                  <a:pt x="227" y="131"/>
                </a:lnTo>
                <a:lnTo>
                  <a:pt x="221" y="123"/>
                </a:lnTo>
                <a:lnTo>
                  <a:pt x="212" y="121"/>
                </a:lnTo>
                <a:lnTo>
                  <a:pt x="17" y="121"/>
                </a:lnTo>
                <a:lnTo>
                  <a:pt x="8" y="123"/>
                </a:lnTo>
                <a:lnTo>
                  <a:pt x="2" y="131"/>
                </a:lnTo>
                <a:lnTo>
                  <a:pt x="0" y="140"/>
                </a:lnTo>
                <a:lnTo>
                  <a:pt x="0" y="320"/>
                </a:lnTo>
                <a:lnTo>
                  <a:pt x="2" y="328"/>
                </a:lnTo>
                <a:lnTo>
                  <a:pt x="8" y="335"/>
                </a:lnTo>
                <a:lnTo>
                  <a:pt x="17" y="337"/>
                </a:lnTo>
                <a:lnTo>
                  <a:pt x="26" y="335"/>
                </a:lnTo>
                <a:lnTo>
                  <a:pt x="32" y="328"/>
                </a:lnTo>
                <a:lnTo>
                  <a:pt x="34" y="320"/>
                </a:lnTo>
                <a:lnTo>
                  <a:pt x="34" y="169"/>
                </a:lnTo>
                <a:lnTo>
                  <a:pt x="36" y="164"/>
                </a:lnTo>
                <a:lnTo>
                  <a:pt x="40" y="162"/>
                </a:lnTo>
                <a:lnTo>
                  <a:pt x="44" y="164"/>
                </a:lnTo>
                <a:lnTo>
                  <a:pt x="44" y="169"/>
                </a:lnTo>
                <a:lnTo>
                  <a:pt x="44" y="331"/>
                </a:lnTo>
                <a:lnTo>
                  <a:pt x="44" y="540"/>
                </a:lnTo>
                <a:lnTo>
                  <a:pt x="48" y="553"/>
                </a:lnTo>
                <a:lnTo>
                  <a:pt x="58" y="565"/>
                </a:lnTo>
                <a:lnTo>
                  <a:pt x="71" y="568"/>
                </a:lnTo>
                <a:lnTo>
                  <a:pt x="78" y="568"/>
                </a:lnTo>
                <a:lnTo>
                  <a:pt x="91" y="565"/>
                </a:lnTo>
                <a:lnTo>
                  <a:pt x="100" y="553"/>
                </a:lnTo>
                <a:lnTo>
                  <a:pt x="102" y="540"/>
                </a:lnTo>
                <a:lnTo>
                  <a:pt x="102" y="343"/>
                </a:lnTo>
                <a:lnTo>
                  <a:pt x="106" y="335"/>
                </a:lnTo>
                <a:lnTo>
                  <a:pt x="113" y="331"/>
                </a:lnTo>
                <a:lnTo>
                  <a:pt x="123" y="335"/>
                </a:lnTo>
                <a:lnTo>
                  <a:pt x="127" y="343"/>
                </a:lnTo>
                <a:lnTo>
                  <a:pt x="127" y="540"/>
                </a:lnTo>
                <a:lnTo>
                  <a:pt x="64" y="53"/>
                </a:lnTo>
                <a:lnTo>
                  <a:pt x="67" y="35"/>
                </a:lnTo>
                <a:lnTo>
                  <a:pt x="74" y="20"/>
                </a:lnTo>
                <a:lnTo>
                  <a:pt x="90" y="8"/>
                </a:lnTo>
                <a:lnTo>
                  <a:pt x="106" y="0"/>
                </a:lnTo>
                <a:lnTo>
                  <a:pt x="123" y="0"/>
                </a:lnTo>
                <a:lnTo>
                  <a:pt x="139" y="8"/>
                </a:lnTo>
                <a:lnTo>
                  <a:pt x="153" y="20"/>
                </a:lnTo>
                <a:lnTo>
                  <a:pt x="161" y="35"/>
                </a:lnTo>
                <a:lnTo>
                  <a:pt x="165" y="53"/>
                </a:lnTo>
                <a:lnTo>
                  <a:pt x="161" y="72"/>
                </a:lnTo>
                <a:lnTo>
                  <a:pt x="153" y="90"/>
                </a:lnTo>
                <a:lnTo>
                  <a:pt x="139" y="101"/>
                </a:lnTo>
                <a:lnTo>
                  <a:pt x="123" y="107"/>
                </a:lnTo>
                <a:lnTo>
                  <a:pt x="106" y="107"/>
                </a:lnTo>
                <a:lnTo>
                  <a:pt x="90" y="101"/>
                </a:lnTo>
                <a:lnTo>
                  <a:pt x="74" y="90"/>
                </a:lnTo>
                <a:lnTo>
                  <a:pt x="67" y="72"/>
                </a:lnTo>
                <a:lnTo>
                  <a:pt x="64" y="53"/>
                </a:lnTo>
                <a:lnTo>
                  <a:pt x="127" y="54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69280" y="422280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40"/>
                </a:moveTo>
                <a:lnTo>
                  <a:pt x="129" y="553"/>
                </a:lnTo>
                <a:lnTo>
                  <a:pt x="137" y="565"/>
                </a:lnTo>
                <a:lnTo>
                  <a:pt x="151" y="568"/>
                </a:lnTo>
                <a:lnTo>
                  <a:pt x="158" y="568"/>
                </a:lnTo>
                <a:lnTo>
                  <a:pt x="171" y="565"/>
                </a:lnTo>
                <a:lnTo>
                  <a:pt x="181" y="553"/>
                </a:lnTo>
                <a:lnTo>
                  <a:pt x="184" y="540"/>
                </a:lnTo>
                <a:lnTo>
                  <a:pt x="184" y="331"/>
                </a:lnTo>
                <a:lnTo>
                  <a:pt x="184" y="169"/>
                </a:lnTo>
                <a:lnTo>
                  <a:pt x="184" y="164"/>
                </a:lnTo>
                <a:lnTo>
                  <a:pt x="189" y="162"/>
                </a:lnTo>
                <a:lnTo>
                  <a:pt x="193" y="164"/>
                </a:lnTo>
                <a:lnTo>
                  <a:pt x="195" y="169"/>
                </a:lnTo>
                <a:lnTo>
                  <a:pt x="195" y="320"/>
                </a:lnTo>
                <a:lnTo>
                  <a:pt x="197" y="328"/>
                </a:lnTo>
                <a:lnTo>
                  <a:pt x="203" y="335"/>
                </a:lnTo>
                <a:lnTo>
                  <a:pt x="212" y="337"/>
                </a:lnTo>
                <a:lnTo>
                  <a:pt x="221" y="335"/>
                </a:lnTo>
                <a:lnTo>
                  <a:pt x="227" y="328"/>
                </a:lnTo>
                <a:lnTo>
                  <a:pt x="229" y="320"/>
                </a:lnTo>
                <a:lnTo>
                  <a:pt x="229" y="140"/>
                </a:lnTo>
                <a:lnTo>
                  <a:pt x="227" y="131"/>
                </a:lnTo>
                <a:lnTo>
                  <a:pt x="221" y="123"/>
                </a:lnTo>
                <a:lnTo>
                  <a:pt x="212" y="121"/>
                </a:lnTo>
                <a:lnTo>
                  <a:pt x="17" y="121"/>
                </a:lnTo>
                <a:lnTo>
                  <a:pt x="8" y="123"/>
                </a:lnTo>
                <a:lnTo>
                  <a:pt x="2" y="131"/>
                </a:lnTo>
                <a:lnTo>
                  <a:pt x="0" y="140"/>
                </a:lnTo>
                <a:lnTo>
                  <a:pt x="0" y="320"/>
                </a:lnTo>
                <a:lnTo>
                  <a:pt x="2" y="328"/>
                </a:lnTo>
                <a:lnTo>
                  <a:pt x="8" y="335"/>
                </a:lnTo>
                <a:lnTo>
                  <a:pt x="17" y="337"/>
                </a:lnTo>
                <a:lnTo>
                  <a:pt x="26" y="335"/>
                </a:lnTo>
                <a:lnTo>
                  <a:pt x="32" y="328"/>
                </a:lnTo>
                <a:lnTo>
                  <a:pt x="34" y="320"/>
                </a:lnTo>
                <a:lnTo>
                  <a:pt x="34" y="169"/>
                </a:lnTo>
                <a:lnTo>
                  <a:pt x="36" y="164"/>
                </a:lnTo>
                <a:lnTo>
                  <a:pt x="40" y="162"/>
                </a:lnTo>
                <a:lnTo>
                  <a:pt x="44" y="164"/>
                </a:lnTo>
                <a:lnTo>
                  <a:pt x="44" y="169"/>
                </a:lnTo>
                <a:lnTo>
                  <a:pt x="44" y="331"/>
                </a:lnTo>
                <a:lnTo>
                  <a:pt x="44" y="540"/>
                </a:lnTo>
                <a:lnTo>
                  <a:pt x="48" y="553"/>
                </a:lnTo>
                <a:lnTo>
                  <a:pt x="58" y="565"/>
                </a:lnTo>
                <a:lnTo>
                  <a:pt x="71" y="568"/>
                </a:lnTo>
                <a:lnTo>
                  <a:pt x="78" y="568"/>
                </a:lnTo>
                <a:lnTo>
                  <a:pt x="91" y="565"/>
                </a:lnTo>
                <a:lnTo>
                  <a:pt x="100" y="553"/>
                </a:lnTo>
                <a:lnTo>
                  <a:pt x="102" y="540"/>
                </a:lnTo>
                <a:lnTo>
                  <a:pt x="102" y="343"/>
                </a:lnTo>
                <a:lnTo>
                  <a:pt x="106" y="335"/>
                </a:lnTo>
                <a:lnTo>
                  <a:pt x="113" y="331"/>
                </a:lnTo>
                <a:lnTo>
                  <a:pt x="123" y="335"/>
                </a:lnTo>
                <a:lnTo>
                  <a:pt x="127" y="343"/>
                </a:lnTo>
                <a:lnTo>
                  <a:pt x="127" y="540"/>
                </a:lnTo>
                <a:lnTo>
                  <a:pt x="64" y="53"/>
                </a:lnTo>
                <a:lnTo>
                  <a:pt x="67" y="35"/>
                </a:lnTo>
                <a:lnTo>
                  <a:pt x="74" y="20"/>
                </a:lnTo>
                <a:lnTo>
                  <a:pt x="90" y="8"/>
                </a:lnTo>
                <a:lnTo>
                  <a:pt x="106" y="0"/>
                </a:lnTo>
                <a:lnTo>
                  <a:pt x="123" y="0"/>
                </a:lnTo>
                <a:lnTo>
                  <a:pt x="139" y="8"/>
                </a:lnTo>
                <a:lnTo>
                  <a:pt x="153" y="20"/>
                </a:lnTo>
                <a:lnTo>
                  <a:pt x="161" y="35"/>
                </a:lnTo>
                <a:lnTo>
                  <a:pt x="165" y="53"/>
                </a:lnTo>
                <a:lnTo>
                  <a:pt x="161" y="72"/>
                </a:lnTo>
                <a:lnTo>
                  <a:pt x="153" y="90"/>
                </a:lnTo>
                <a:lnTo>
                  <a:pt x="139" y="101"/>
                </a:lnTo>
                <a:lnTo>
                  <a:pt x="123" y="107"/>
                </a:lnTo>
                <a:lnTo>
                  <a:pt x="106" y="107"/>
                </a:lnTo>
                <a:lnTo>
                  <a:pt x="90" y="101"/>
                </a:lnTo>
                <a:lnTo>
                  <a:pt x="74" y="90"/>
                </a:lnTo>
                <a:lnTo>
                  <a:pt x="67" y="72"/>
                </a:lnTo>
                <a:lnTo>
                  <a:pt x="64" y="53"/>
                </a:lnTo>
                <a:lnTo>
                  <a:pt x="127" y="54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926480" y="422280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40"/>
                </a:moveTo>
                <a:lnTo>
                  <a:pt x="128" y="553"/>
                </a:lnTo>
                <a:lnTo>
                  <a:pt x="137" y="565"/>
                </a:lnTo>
                <a:lnTo>
                  <a:pt x="151" y="568"/>
                </a:lnTo>
                <a:lnTo>
                  <a:pt x="158" y="568"/>
                </a:lnTo>
                <a:lnTo>
                  <a:pt x="171" y="565"/>
                </a:lnTo>
                <a:lnTo>
                  <a:pt x="181" y="553"/>
                </a:lnTo>
                <a:lnTo>
                  <a:pt x="184" y="540"/>
                </a:lnTo>
                <a:lnTo>
                  <a:pt x="184" y="331"/>
                </a:lnTo>
                <a:lnTo>
                  <a:pt x="184" y="169"/>
                </a:lnTo>
                <a:lnTo>
                  <a:pt x="184" y="164"/>
                </a:lnTo>
                <a:lnTo>
                  <a:pt x="189" y="162"/>
                </a:lnTo>
                <a:lnTo>
                  <a:pt x="193" y="164"/>
                </a:lnTo>
                <a:lnTo>
                  <a:pt x="195" y="169"/>
                </a:lnTo>
                <a:lnTo>
                  <a:pt x="195" y="320"/>
                </a:lnTo>
                <a:lnTo>
                  <a:pt x="197" y="328"/>
                </a:lnTo>
                <a:lnTo>
                  <a:pt x="203" y="335"/>
                </a:lnTo>
                <a:lnTo>
                  <a:pt x="212" y="337"/>
                </a:lnTo>
                <a:lnTo>
                  <a:pt x="221" y="335"/>
                </a:lnTo>
                <a:lnTo>
                  <a:pt x="227" y="328"/>
                </a:lnTo>
                <a:lnTo>
                  <a:pt x="228" y="320"/>
                </a:lnTo>
                <a:lnTo>
                  <a:pt x="228" y="140"/>
                </a:lnTo>
                <a:lnTo>
                  <a:pt x="227" y="131"/>
                </a:lnTo>
                <a:lnTo>
                  <a:pt x="221" y="123"/>
                </a:lnTo>
                <a:lnTo>
                  <a:pt x="212" y="121"/>
                </a:lnTo>
                <a:lnTo>
                  <a:pt x="17" y="121"/>
                </a:lnTo>
                <a:lnTo>
                  <a:pt x="8" y="123"/>
                </a:lnTo>
                <a:lnTo>
                  <a:pt x="2" y="131"/>
                </a:lnTo>
                <a:lnTo>
                  <a:pt x="0" y="140"/>
                </a:lnTo>
                <a:lnTo>
                  <a:pt x="0" y="320"/>
                </a:lnTo>
                <a:lnTo>
                  <a:pt x="2" y="328"/>
                </a:lnTo>
                <a:lnTo>
                  <a:pt x="8" y="335"/>
                </a:lnTo>
                <a:lnTo>
                  <a:pt x="17" y="337"/>
                </a:lnTo>
                <a:lnTo>
                  <a:pt x="26" y="335"/>
                </a:lnTo>
                <a:lnTo>
                  <a:pt x="32" y="328"/>
                </a:lnTo>
                <a:lnTo>
                  <a:pt x="34" y="320"/>
                </a:lnTo>
                <a:lnTo>
                  <a:pt x="34" y="169"/>
                </a:lnTo>
                <a:lnTo>
                  <a:pt x="36" y="164"/>
                </a:lnTo>
                <a:lnTo>
                  <a:pt x="40" y="162"/>
                </a:lnTo>
                <a:lnTo>
                  <a:pt x="44" y="164"/>
                </a:lnTo>
                <a:lnTo>
                  <a:pt x="44" y="169"/>
                </a:lnTo>
                <a:lnTo>
                  <a:pt x="44" y="331"/>
                </a:lnTo>
                <a:lnTo>
                  <a:pt x="44" y="540"/>
                </a:lnTo>
                <a:lnTo>
                  <a:pt x="48" y="553"/>
                </a:lnTo>
                <a:lnTo>
                  <a:pt x="58" y="565"/>
                </a:lnTo>
                <a:lnTo>
                  <a:pt x="71" y="568"/>
                </a:lnTo>
                <a:lnTo>
                  <a:pt x="78" y="568"/>
                </a:lnTo>
                <a:lnTo>
                  <a:pt x="91" y="565"/>
                </a:lnTo>
                <a:lnTo>
                  <a:pt x="100" y="553"/>
                </a:lnTo>
                <a:lnTo>
                  <a:pt x="102" y="540"/>
                </a:lnTo>
                <a:lnTo>
                  <a:pt x="102" y="343"/>
                </a:lnTo>
                <a:lnTo>
                  <a:pt x="106" y="335"/>
                </a:lnTo>
                <a:lnTo>
                  <a:pt x="113" y="331"/>
                </a:lnTo>
                <a:lnTo>
                  <a:pt x="123" y="335"/>
                </a:lnTo>
                <a:lnTo>
                  <a:pt x="127" y="343"/>
                </a:lnTo>
                <a:lnTo>
                  <a:pt x="127" y="540"/>
                </a:lnTo>
                <a:lnTo>
                  <a:pt x="64" y="53"/>
                </a:lnTo>
                <a:lnTo>
                  <a:pt x="67" y="35"/>
                </a:lnTo>
                <a:lnTo>
                  <a:pt x="74" y="20"/>
                </a:lnTo>
                <a:lnTo>
                  <a:pt x="89" y="8"/>
                </a:lnTo>
                <a:lnTo>
                  <a:pt x="106" y="0"/>
                </a:lnTo>
                <a:lnTo>
                  <a:pt x="123" y="0"/>
                </a:lnTo>
                <a:lnTo>
                  <a:pt x="139" y="8"/>
                </a:lnTo>
                <a:lnTo>
                  <a:pt x="153" y="20"/>
                </a:lnTo>
                <a:lnTo>
                  <a:pt x="161" y="35"/>
                </a:lnTo>
                <a:lnTo>
                  <a:pt x="165" y="53"/>
                </a:lnTo>
                <a:lnTo>
                  <a:pt x="161" y="72"/>
                </a:lnTo>
                <a:lnTo>
                  <a:pt x="153" y="90"/>
                </a:lnTo>
                <a:lnTo>
                  <a:pt x="139" y="101"/>
                </a:lnTo>
                <a:lnTo>
                  <a:pt x="123" y="107"/>
                </a:lnTo>
                <a:lnTo>
                  <a:pt x="106" y="107"/>
                </a:lnTo>
                <a:lnTo>
                  <a:pt x="89" y="101"/>
                </a:lnTo>
                <a:lnTo>
                  <a:pt x="74" y="90"/>
                </a:lnTo>
                <a:lnTo>
                  <a:pt x="67" y="72"/>
                </a:lnTo>
                <a:lnTo>
                  <a:pt x="64" y="53"/>
                </a:lnTo>
                <a:lnTo>
                  <a:pt x="127" y="54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6554880" y="3274920"/>
            <a:ext cx="1735200" cy="2311920"/>
            <a:chOff x="6554880" y="3274920"/>
            <a:chExt cx="1735200" cy="2311920"/>
          </a:xfrm>
        </p:grpSpPr>
        <p:sp>
          <p:nvSpPr>
            <p:cNvPr id="1523" name=""/>
            <p:cNvSpPr/>
            <p:nvPr/>
          </p:nvSpPr>
          <p:spPr>
            <a:xfrm>
              <a:off x="7067520" y="3274920"/>
              <a:ext cx="687600" cy="687240"/>
            </a:xfrm>
            <a:custGeom>
              <a:avLst/>
              <a:gdLst/>
              <a:ahLst/>
              <a:rect l="l" t="t" r="r" b="b"/>
              <a:pathLst>
                <a:path w="433" h="433">
                  <a:moveTo>
                    <a:pt x="324" y="0"/>
                  </a:moveTo>
                  <a:lnTo>
                    <a:pt x="324" y="323"/>
                  </a:lnTo>
                  <a:lnTo>
                    <a:pt x="432" y="323"/>
                  </a:lnTo>
                  <a:lnTo>
                    <a:pt x="217" y="432"/>
                  </a:lnTo>
                  <a:lnTo>
                    <a:pt x="0" y="323"/>
                  </a:lnTo>
                  <a:lnTo>
                    <a:pt x="109" y="323"/>
                  </a:lnTo>
                  <a:lnTo>
                    <a:pt x="10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554880" y="4417920"/>
              <a:ext cx="365040" cy="707760"/>
            </a:xfrm>
            <a:custGeom>
              <a:avLst/>
              <a:gdLst/>
              <a:ahLst/>
              <a:rect l="l" t="t" r="r" b="b"/>
              <a:pathLst>
                <a:path w="230" h="446">
                  <a:moveTo>
                    <a:pt x="127" y="417"/>
                  </a:moveTo>
                  <a:lnTo>
                    <a:pt x="129" y="430"/>
                  </a:lnTo>
                  <a:lnTo>
                    <a:pt x="137" y="442"/>
                  </a:lnTo>
                  <a:lnTo>
                    <a:pt x="151" y="445"/>
                  </a:lnTo>
                  <a:lnTo>
                    <a:pt x="158" y="445"/>
                  </a:lnTo>
                  <a:lnTo>
                    <a:pt x="171" y="442"/>
                  </a:lnTo>
                  <a:lnTo>
                    <a:pt x="181" y="430"/>
                  </a:lnTo>
                  <a:lnTo>
                    <a:pt x="184" y="417"/>
                  </a:lnTo>
                  <a:lnTo>
                    <a:pt x="184" y="209"/>
                  </a:lnTo>
                  <a:lnTo>
                    <a:pt x="184" y="47"/>
                  </a:lnTo>
                  <a:lnTo>
                    <a:pt x="184" y="42"/>
                  </a:lnTo>
                  <a:lnTo>
                    <a:pt x="189" y="40"/>
                  </a:lnTo>
                  <a:lnTo>
                    <a:pt x="193" y="42"/>
                  </a:lnTo>
                  <a:lnTo>
                    <a:pt x="195" y="47"/>
                  </a:lnTo>
                  <a:lnTo>
                    <a:pt x="195" y="198"/>
                  </a:lnTo>
                  <a:lnTo>
                    <a:pt x="197" y="206"/>
                  </a:lnTo>
                  <a:lnTo>
                    <a:pt x="203" y="213"/>
                  </a:lnTo>
                  <a:lnTo>
                    <a:pt x="212" y="215"/>
                  </a:lnTo>
                  <a:lnTo>
                    <a:pt x="221" y="213"/>
                  </a:lnTo>
                  <a:lnTo>
                    <a:pt x="227" y="206"/>
                  </a:lnTo>
                  <a:lnTo>
                    <a:pt x="229" y="198"/>
                  </a:lnTo>
                  <a:lnTo>
                    <a:pt x="229" y="19"/>
                  </a:lnTo>
                  <a:lnTo>
                    <a:pt x="227" y="10"/>
                  </a:lnTo>
                  <a:lnTo>
                    <a:pt x="221" y="2"/>
                  </a:lnTo>
                  <a:lnTo>
                    <a:pt x="212" y="0"/>
                  </a:lnTo>
                  <a:lnTo>
                    <a:pt x="17" y="0"/>
                  </a:lnTo>
                  <a:lnTo>
                    <a:pt x="8" y="2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8"/>
                  </a:lnTo>
                  <a:lnTo>
                    <a:pt x="2" y="206"/>
                  </a:lnTo>
                  <a:lnTo>
                    <a:pt x="8" y="213"/>
                  </a:lnTo>
                  <a:lnTo>
                    <a:pt x="17" y="215"/>
                  </a:lnTo>
                  <a:lnTo>
                    <a:pt x="26" y="213"/>
                  </a:lnTo>
                  <a:lnTo>
                    <a:pt x="32" y="206"/>
                  </a:lnTo>
                  <a:lnTo>
                    <a:pt x="34" y="198"/>
                  </a:lnTo>
                  <a:lnTo>
                    <a:pt x="34" y="47"/>
                  </a:lnTo>
                  <a:lnTo>
                    <a:pt x="36" y="42"/>
                  </a:lnTo>
                  <a:lnTo>
                    <a:pt x="40" y="40"/>
                  </a:lnTo>
                  <a:lnTo>
                    <a:pt x="44" y="42"/>
                  </a:lnTo>
                  <a:lnTo>
                    <a:pt x="44" y="47"/>
                  </a:lnTo>
                  <a:lnTo>
                    <a:pt x="44" y="209"/>
                  </a:lnTo>
                  <a:lnTo>
                    <a:pt x="44" y="417"/>
                  </a:lnTo>
                  <a:lnTo>
                    <a:pt x="48" y="430"/>
                  </a:lnTo>
                  <a:lnTo>
                    <a:pt x="58" y="442"/>
                  </a:lnTo>
                  <a:lnTo>
                    <a:pt x="71" y="445"/>
                  </a:lnTo>
                  <a:lnTo>
                    <a:pt x="78" y="445"/>
                  </a:lnTo>
                  <a:lnTo>
                    <a:pt x="91" y="442"/>
                  </a:lnTo>
                  <a:lnTo>
                    <a:pt x="100" y="430"/>
                  </a:lnTo>
                  <a:lnTo>
                    <a:pt x="102" y="417"/>
                  </a:lnTo>
                  <a:lnTo>
                    <a:pt x="102" y="221"/>
                  </a:lnTo>
                  <a:lnTo>
                    <a:pt x="106" y="213"/>
                  </a:lnTo>
                  <a:lnTo>
                    <a:pt x="114" y="209"/>
                  </a:lnTo>
                  <a:lnTo>
                    <a:pt x="123" y="213"/>
                  </a:lnTo>
                  <a:lnTo>
                    <a:pt x="127" y="221"/>
                  </a:lnTo>
                  <a:lnTo>
                    <a:pt x="127" y="417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222440"/>
              <a:ext cx="155520" cy="160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0" y="50"/>
                  </a:moveTo>
                  <a:lnTo>
                    <a:pt x="4" y="32"/>
                  </a:lnTo>
                  <a:lnTo>
                    <a:pt x="10" y="19"/>
                  </a:lnTo>
                  <a:lnTo>
                    <a:pt x="25" y="7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2" y="7"/>
                  </a:lnTo>
                  <a:lnTo>
                    <a:pt x="85" y="19"/>
                  </a:lnTo>
                  <a:lnTo>
                    <a:pt x="93" y="32"/>
                  </a:lnTo>
                  <a:lnTo>
                    <a:pt x="97" y="50"/>
                  </a:lnTo>
                  <a:lnTo>
                    <a:pt x="93" y="68"/>
                  </a:lnTo>
                  <a:lnTo>
                    <a:pt x="85" y="84"/>
                  </a:lnTo>
                  <a:lnTo>
                    <a:pt x="72" y="94"/>
                  </a:lnTo>
                  <a:lnTo>
                    <a:pt x="56" y="100"/>
                  </a:lnTo>
                  <a:lnTo>
                    <a:pt x="41" y="100"/>
                  </a:lnTo>
                  <a:lnTo>
                    <a:pt x="25" y="94"/>
                  </a:lnTo>
                  <a:lnTo>
                    <a:pt x="10" y="84"/>
                  </a:lnTo>
                  <a:lnTo>
                    <a:pt x="4" y="68"/>
                  </a:lnTo>
                  <a:lnTo>
                    <a:pt x="0" y="50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012080" y="4417920"/>
              <a:ext cx="365040" cy="707760"/>
            </a:xfrm>
            <a:custGeom>
              <a:avLst/>
              <a:gdLst/>
              <a:ahLst/>
              <a:rect l="l" t="t" r="r" b="b"/>
              <a:pathLst>
                <a:path w="230" h="446">
                  <a:moveTo>
                    <a:pt x="127" y="417"/>
                  </a:moveTo>
                  <a:lnTo>
                    <a:pt x="129" y="430"/>
                  </a:lnTo>
                  <a:lnTo>
                    <a:pt x="137" y="442"/>
                  </a:lnTo>
                  <a:lnTo>
                    <a:pt x="151" y="445"/>
                  </a:lnTo>
                  <a:lnTo>
                    <a:pt x="158" y="445"/>
                  </a:lnTo>
                  <a:lnTo>
                    <a:pt x="171" y="442"/>
                  </a:lnTo>
                  <a:lnTo>
                    <a:pt x="181" y="430"/>
                  </a:lnTo>
                  <a:lnTo>
                    <a:pt x="184" y="417"/>
                  </a:lnTo>
                  <a:lnTo>
                    <a:pt x="184" y="209"/>
                  </a:lnTo>
                  <a:lnTo>
                    <a:pt x="184" y="47"/>
                  </a:lnTo>
                  <a:lnTo>
                    <a:pt x="184" y="42"/>
                  </a:lnTo>
                  <a:lnTo>
                    <a:pt x="189" y="40"/>
                  </a:lnTo>
                  <a:lnTo>
                    <a:pt x="193" y="42"/>
                  </a:lnTo>
                  <a:lnTo>
                    <a:pt x="195" y="47"/>
                  </a:lnTo>
                  <a:lnTo>
                    <a:pt x="195" y="198"/>
                  </a:lnTo>
                  <a:lnTo>
                    <a:pt x="197" y="206"/>
                  </a:lnTo>
                  <a:lnTo>
                    <a:pt x="203" y="213"/>
                  </a:lnTo>
                  <a:lnTo>
                    <a:pt x="212" y="215"/>
                  </a:lnTo>
                  <a:lnTo>
                    <a:pt x="221" y="213"/>
                  </a:lnTo>
                  <a:lnTo>
                    <a:pt x="227" y="206"/>
                  </a:lnTo>
                  <a:lnTo>
                    <a:pt x="229" y="198"/>
                  </a:lnTo>
                  <a:lnTo>
                    <a:pt x="229" y="19"/>
                  </a:lnTo>
                  <a:lnTo>
                    <a:pt x="227" y="10"/>
                  </a:lnTo>
                  <a:lnTo>
                    <a:pt x="221" y="2"/>
                  </a:lnTo>
                  <a:lnTo>
                    <a:pt x="212" y="0"/>
                  </a:lnTo>
                  <a:lnTo>
                    <a:pt x="17" y="0"/>
                  </a:lnTo>
                  <a:lnTo>
                    <a:pt x="8" y="2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8"/>
                  </a:lnTo>
                  <a:lnTo>
                    <a:pt x="2" y="206"/>
                  </a:lnTo>
                  <a:lnTo>
                    <a:pt x="8" y="213"/>
                  </a:lnTo>
                  <a:lnTo>
                    <a:pt x="17" y="215"/>
                  </a:lnTo>
                  <a:lnTo>
                    <a:pt x="26" y="213"/>
                  </a:lnTo>
                  <a:lnTo>
                    <a:pt x="32" y="206"/>
                  </a:lnTo>
                  <a:lnTo>
                    <a:pt x="34" y="198"/>
                  </a:lnTo>
                  <a:lnTo>
                    <a:pt x="34" y="47"/>
                  </a:lnTo>
                  <a:lnTo>
                    <a:pt x="36" y="42"/>
                  </a:lnTo>
                  <a:lnTo>
                    <a:pt x="40" y="40"/>
                  </a:lnTo>
                  <a:lnTo>
                    <a:pt x="44" y="42"/>
                  </a:lnTo>
                  <a:lnTo>
                    <a:pt x="44" y="47"/>
                  </a:lnTo>
                  <a:lnTo>
                    <a:pt x="44" y="209"/>
                  </a:lnTo>
                  <a:lnTo>
                    <a:pt x="44" y="417"/>
                  </a:lnTo>
                  <a:lnTo>
                    <a:pt x="48" y="430"/>
                  </a:lnTo>
                  <a:lnTo>
                    <a:pt x="58" y="442"/>
                  </a:lnTo>
                  <a:lnTo>
                    <a:pt x="71" y="445"/>
                  </a:lnTo>
                  <a:lnTo>
                    <a:pt x="78" y="445"/>
                  </a:lnTo>
                  <a:lnTo>
                    <a:pt x="91" y="442"/>
                  </a:lnTo>
                  <a:lnTo>
                    <a:pt x="100" y="430"/>
                  </a:lnTo>
                  <a:lnTo>
                    <a:pt x="102" y="417"/>
                  </a:lnTo>
                  <a:lnTo>
                    <a:pt x="102" y="221"/>
                  </a:lnTo>
                  <a:lnTo>
                    <a:pt x="106" y="213"/>
                  </a:lnTo>
                  <a:lnTo>
                    <a:pt x="113" y="209"/>
                  </a:lnTo>
                  <a:lnTo>
                    <a:pt x="123" y="213"/>
                  </a:lnTo>
                  <a:lnTo>
                    <a:pt x="127" y="221"/>
                  </a:lnTo>
                  <a:lnTo>
                    <a:pt x="127" y="417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16840" y="4222440"/>
              <a:ext cx="155520" cy="160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0" y="50"/>
                  </a:moveTo>
                  <a:lnTo>
                    <a:pt x="3" y="32"/>
                  </a:lnTo>
                  <a:lnTo>
                    <a:pt x="10" y="19"/>
                  </a:lnTo>
                  <a:lnTo>
                    <a:pt x="25" y="7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2" y="7"/>
                  </a:lnTo>
                  <a:lnTo>
                    <a:pt x="85" y="19"/>
                  </a:lnTo>
                  <a:lnTo>
                    <a:pt x="93" y="32"/>
                  </a:lnTo>
                  <a:lnTo>
                    <a:pt x="97" y="50"/>
                  </a:lnTo>
                  <a:lnTo>
                    <a:pt x="93" y="68"/>
                  </a:lnTo>
                  <a:lnTo>
                    <a:pt x="85" y="84"/>
                  </a:lnTo>
                  <a:lnTo>
                    <a:pt x="72" y="94"/>
                  </a:lnTo>
                  <a:lnTo>
                    <a:pt x="56" y="100"/>
                  </a:lnTo>
                  <a:lnTo>
                    <a:pt x="41" y="100"/>
                  </a:lnTo>
                  <a:lnTo>
                    <a:pt x="25" y="94"/>
                  </a:lnTo>
                  <a:lnTo>
                    <a:pt x="10" y="84"/>
                  </a:lnTo>
                  <a:lnTo>
                    <a:pt x="3" y="68"/>
                  </a:lnTo>
                  <a:lnTo>
                    <a:pt x="0" y="50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469280" y="4417920"/>
              <a:ext cx="365040" cy="707760"/>
            </a:xfrm>
            <a:custGeom>
              <a:avLst/>
              <a:gdLst/>
              <a:ahLst/>
              <a:rect l="l" t="t" r="r" b="b"/>
              <a:pathLst>
                <a:path w="230" h="446">
                  <a:moveTo>
                    <a:pt x="127" y="417"/>
                  </a:moveTo>
                  <a:lnTo>
                    <a:pt x="129" y="430"/>
                  </a:lnTo>
                  <a:lnTo>
                    <a:pt x="137" y="442"/>
                  </a:lnTo>
                  <a:lnTo>
                    <a:pt x="151" y="445"/>
                  </a:lnTo>
                  <a:lnTo>
                    <a:pt x="158" y="445"/>
                  </a:lnTo>
                  <a:lnTo>
                    <a:pt x="171" y="442"/>
                  </a:lnTo>
                  <a:lnTo>
                    <a:pt x="181" y="430"/>
                  </a:lnTo>
                  <a:lnTo>
                    <a:pt x="184" y="417"/>
                  </a:lnTo>
                  <a:lnTo>
                    <a:pt x="184" y="209"/>
                  </a:lnTo>
                  <a:lnTo>
                    <a:pt x="184" y="47"/>
                  </a:lnTo>
                  <a:lnTo>
                    <a:pt x="184" y="42"/>
                  </a:lnTo>
                  <a:lnTo>
                    <a:pt x="189" y="40"/>
                  </a:lnTo>
                  <a:lnTo>
                    <a:pt x="193" y="42"/>
                  </a:lnTo>
                  <a:lnTo>
                    <a:pt x="195" y="47"/>
                  </a:lnTo>
                  <a:lnTo>
                    <a:pt x="195" y="198"/>
                  </a:lnTo>
                  <a:lnTo>
                    <a:pt x="197" y="206"/>
                  </a:lnTo>
                  <a:lnTo>
                    <a:pt x="203" y="213"/>
                  </a:lnTo>
                  <a:lnTo>
                    <a:pt x="212" y="215"/>
                  </a:lnTo>
                  <a:lnTo>
                    <a:pt x="221" y="213"/>
                  </a:lnTo>
                  <a:lnTo>
                    <a:pt x="227" y="206"/>
                  </a:lnTo>
                  <a:lnTo>
                    <a:pt x="229" y="198"/>
                  </a:lnTo>
                  <a:lnTo>
                    <a:pt x="229" y="19"/>
                  </a:lnTo>
                  <a:lnTo>
                    <a:pt x="227" y="10"/>
                  </a:lnTo>
                  <a:lnTo>
                    <a:pt x="221" y="2"/>
                  </a:lnTo>
                  <a:lnTo>
                    <a:pt x="212" y="0"/>
                  </a:lnTo>
                  <a:lnTo>
                    <a:pt x="17" y="0"/>
                  </a:lnTo>
                  <a:lnTo>
                    <a:pt x="8" y="2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8"/>
                  </a:lnTo>
                  <a:lnTo>
                    <a:pt x="2" y="206"/>
                  </a:lnTo>
                  <a:lnTo>
                    <a:pt x="8" y="213"/>
                  </a:lnTo>
                  <a:lnTo>
                    <a:pt x="17" y="215"/>
                  </a:lnTo>
                  <a:lnTo>
                    <a:pt x="26" y="213"/>
                  </a:lnTo>
                  <a:lnTo>
                    <a:pt x="32" y="206"/>
                  </a:lnTo>
                  <a:lnTo>
                    <a:pt x="34" y="198"/>
                  </a:lnTo>
                  <a:lnTo>
                    <a:pt x="34" y="47"/>
                  </a:lnTo>
                  <a:lnTo>
                    <a:pt x="36" y="42"/>
                  </a:lnTo>
                  <a:lnTo>
                    <a:pt x="40" y="40"/>
                  </a:lnTo>
                  <a:lnTo>
                    <a:pt x="44" y="42"/>
                  </a:lnTo>
                  <a:lnTo>
                    <a:pt x="44" y="47"/>
                  </a:lnTo>
                  <a:lnTo>
                    <a:pt x="44" y="209"/>
                  </a:lnTo>
                  <a:lnTo>
                    <a:pt x="44" y="417"/>
                  </a:lnTo>
                  <a:lnTo>
                    <a:pt x="48" y="430"/>
                  </a:lnTo>
                  <a:lnTo>
                    <a:pt x="58" y="442"/>
                  </a:lnTo>
                  <a:lnTo>
                    <a:pt x="71" y="445"/>
                  </a:lnTo>
                  <a:lnTo>
                    <a:pt x="78" y="445"/>
                  </a:lnTo>
                  <a:lnTo>
                    <a:pt x="91" y="442"/>
                  </a:lnTo>
                  <a:lnTo>
                    <a:pt x="100" y="430"/>
                  </a:lnTo>
                  <a:lnTo>
                    <a:pt x="102" y="417"/>
                  </a:lnTo>
                  <a:lnTo>
                    <a:pt x="102" y="221"/>
                  </a:lnTo>
                  <a:lnTo>
                    <a:pt x="106" y="213"/>
                  </a:lnTo>
                  <a:lnTo>
                    <a:pt x="113" y="209"/>
                  </a:lnTo>
                  <a:lnTo>
                    <a:pt x="123" y="213"/>
                  </a:lnTo>
                  <a:lnTo>
                    <a:pt x="127" y="221"/>
                  </a:lnTo>
                  <a:lnTo>
                    <a:pt x="127" y="417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574040" y="4222440"/>
              <a:ext cx="155520" cy="160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0" y="50"/>
                  </a:moveTo>
                  <a:lnTo>
                    <a:pt x="3" y="32"/>
                  </a:lnTo>
                  <a:lnTo>
                    <a:pt x="10" y="19"/>
                  </a:lnTo>
                  <a:lnTo>
                    <a:pt x="25" y="7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2" y="7"/>
                  </a:lnTo>
                  <a:lnTo>
                    <a:pt x="85" y="19"/>
                  </a:lnTo>
                  <a:lnTo>
                    <a:pt x="93" y="32"/>
                  </a:lnTo>
                  <a:lnTo>
                    <a:pt x="97" y="50"/>
                  </a:lnTo>
                  <a:lnTo>
                    <a:pt x="93" y="68"/>
                  </a:lnTo>
                  <a:lnTo>
                    <a:pt x="85" y="84"/>
                  </a:lnTo>
                  <a:lnTo>
                    <a:pt x="72" y="94"/>
                  </a:lnTo>
                  <a:lnTo>
                    <a:pt x="56" y="100"/>
                  </a:lnTo>
                  <a:lnTo>
                    <a:pt x="41" y="100"/>
                  </a:lnTo>
                  <a:lnTo>
                    <a:pt x="25" y="94"/>
                  </a:lnTo>
                  <a:lnTo>
                    <a:pt x="10" y="84"/>
                  </a:lnTo>
                  <a:lnTo>
                    <a:pt x="3" y="68"/>
                  </a:lnTo>
                  <a:lnTo>
                    <a:pt x="0" y="50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926480" y="4417920"/>
              <a:ext cx="363600" cy="707760"/>
            </a:xfrm>
            <a:custGeom>
              <a:avLst/>
              <a:gdLst/>
              <a:ahLst/>
              <a:rect l="l" t="t" r="r" b="b"/>
              <a:pathLst>
                <a:path w="229" h="446">
                  <a:moveTo>
                    <a:pt x="127" y="417"/>
                  </a:moveTo>
                  <a:lnTo>
                    <a:pt x="128" y="430"/>
                  </a:lnTo>
                  <a:lnTo>
                    <a:pt x="137" y="442"/>
                  </a:lnTo>
                  <a:lnTo>
                    <a:pt x="151" y="445"/>
                  </a:lnTo>
                  <a:lnTo>
                    <a:pt x="158" y="445"/>
                  </a:lnTo>
                  <a:lnTo>
                    <a:pt x="171" y="442"/>
                  </a:lnTo>
                  <a:lnTo>
                    <a:pt x="181" y="430"/>
                  </a:lnTo>
                  <a:lnTo>
                    <a:pt x="184" y="417"/>
                  </a:lnTo>
                  <a:lnTo>
                    <a:pt x="184" y="209"/>
                  </a:lnTo>
                  <a:lnTo>
                    <a:pt x="184" y="47"/>
                  </a:lnTo>
                  <a:lnTo>
                    <a:pt x="184" y="42"/>
                  </a:lnTo>
                  <a:lnTo>
                    <a:pt x="189" y="40"/>
                  </a:lnTo>
                  <a:lnTo>
                    <a:pt x="193" y="42"/>
                  </a:lnTo>
                  <a:lnTo>
                    <a:pt x="195" y="47"/>
                  </a:lnTo>
                  <a:lnTo>
                    <a:pt x="195" y="198"/>
                  </a:lnTo>
                  <a:lnTo>
                    <a:pt x="197" y="206"/>
                  </a:lnTo>
                  <a:lnTo>
                    <a:pt x="203" y="213"/>
                  </a:lnTo>
                  <a:lnTo>
                    <a:pt x="212" y="215"/>
                  </a:lnTo>
                  <a:lnTo>
                    <a:pt x="221" y="213"/>
                  </a:lnTo>
                  <a:lnTo>
                    <a:pt x="227" y="206"/>
                  </a:lnTo>
                  <a:lnTo>
                    <a:pt x="228" y="198"/>
                  </a:lnTo>
                  <a:lnTo>
                    <a:pt x="228" y="19"/>
                  </a:lnTo>
                  <a:lnTo>
                    <a:pt x="227" y="10"/>
                  </a:lnTo>
                  <a:lnTo>
                    <a:pt x="221" y="2"/>
                  </a:lnTo>
                  <a:lnTo>
                    <a:pt x="212" y="0"/>
                  </a:lnTo>
                  <a:lnTo>
                    <a:pt x="17" y="0"/>
                  </a:lnTo>
                  <a:lnTo>
                    <a:pt x="8" y="2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8"/>
                  </a:lnTo>
                  <a:lnTo>
                    <a:pt x="2" y="206"/>
                  </a:lnTo>
                  <a:lnTo>
                    <a:pt x="8" y="213"/>
                  </a:lnTo>
                  <a:lnTo>
                    <a:pt x="17" y="215"/>
                  </a:lnTo>
                  <a:lnTo>
                    <a:pt x="26" y="213"/>
                  </a:lnTo>
                  <a:lnTo>
                    <a:pt x="32" y="206"/>
                  </a:lnTo>
                  <a:lnTo>
                    <a:pt x="34" y="198"/>
                  </a:lnTo>
                  <a:lnTo>
                    <a:pt x="34" y="47"/>
                  </a:lnTo>
                  <a:lnTo>
                    <a:pt x="36" y="42"/>
                  </a:lnTo>
                  <a:lnTo>
                    <a:pt x="40" y="40"/>
                  </a:lnTo>
                  <a:lnTo>
                    <a:pt x="44" y="42"/>
                  </a:lnTo>
                  <a:lnTo>
                    <a:pt x="44" y="47"/>
                  </a:lnTo>
                  <a:lnTo>
                    <a:pt x="44" y="209"/>
                  </a:lnTo>
                  <a:lnTo>
                    <a:pt x="44" y="417"/>
                  </a:lnTo>
                  <a:lnTo>
                    <a:pt x="48" y="430"/>
                  </a:lnTo>
                  <a:lnTo>
                    <a:pt x="58" y="442"/>
                  </a:lnTo>
                  <a:lnTo>
                    <a:pt x="71" y="445"/>
                  </a:lnTo>
                  <a:lnTo>
                    <a:pt x="78" y="445"/>
                  </a:lnTo>
                  <a:lnTo>
                    <a:pt x="91" y="442"/>
                  </a:lnTo>
                  <a:lnTo>
                    <a:pt x="100" y="430"/>
                  </a:lnTo>
                  <a:lnTo>
                    <a:pt x="102" y="417"/>
                  </a:lnTo>
                  <a:lnTo>
                    <a:pt x="102" y="221"/>
                  </a:lnTo>
                  <a:lnTo>
                    <a:pt x="106" y="213"/>
                  </a:lnTo>
                  <a:lnTo>
                    <a:pt x="113" y="209"/>
                  </a:lnTo>
                  <a:lnTo>
                    <a:pt x="123" y="213"/>
                  </a:lnTo>
                  <a:lnTo>
                    <a:pt x="127" y="221"/>
                  </a:lnTo>
                  <a:lnTo>
                    <a:pt x="127" y="417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031240" y="4222440"/>
              <a:ext cx="155520" cy="16056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0" y="50"/>
                  </a:moveTo>
                  <a:lnTo>
                    <a:pt x="3" y="32"/>
                  </a:lnTo>
                  <a:lnTo>
                    <a:pt x="10" y="19"/>
                  </a:lnTo>
                  <a:lnTo>
                    <a:pt x="24" y="7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2" y="7"/>
                  </a:lnTo>
                  <a:lnTo>
                    <a:pt x="85" y="19"/>
                  </a:lnTo>
                  <a:lnTo>
                    <a:pt x="93" y="32"/>
                  </a:lnTo>
                  <a:lnTo>
                    <a:pt x="97" y="50"/>
                  </a:lnTo>
                  <a:lnTo>
                    <a:pt x="93" y="68"/>
                  </a:lnTo>
                  <a:lnTo>
                    <a:pt x="85" y="84"/>
                  </a:lnTo>
                  <a:lnTo>
                    <a:pt x="72" y="94"/>
                  </a:lnTo>
                  <a:lnTo>
                    <a:pt x="56" y="100"/>
                  </a:lnTo>
                  <a:lnTo>
                    <a:pt x="41" y="100"/>
                  </a:lnTo>
                  <a:lnTo>
                    <a:pt x="24" y="94"/>
                  </a:lnTo>
                  <a:lnTo>
                    <a:pt x="10" y="84"/>
                  </a:lnTo>
                  <a:lnTo>
                    <a:pt x="3" y="68"/>
                  </a:lnTo>
                  <a:lnTo>
                    <a:pt x="0" y="50"/>
                  </a:lnTo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72320" y="5132160"/>
              <a:ext cx="12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dcdcd"/>
                  </a:solidFill>
                  <a:latin typeface="Arial"/>
                </a:rPr>
                <a:t>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908280" y="3419640"/>
            <a:ext cx="2904480" cy="2108880"/>
            <a:chOff x="908280" y="3419640"/>
            <a:chExt cx="2904480" cy="2108880"/>
          </a:xfrm>
        </p:grpSpPr>
        <p:sp>
          <p:nvSpPr>
            <p:cNvPr id="1534" name=""/>
            <p:cNvSpPr/>
            <p:nvPr/>
          </p:nvSpPr>
          <p:spPr>
            <a:xfrm>
              <a:off x="2898360" y="4327560"/>
              <a:ext cx="914400" cy="687600"/>
            </a:xfrm>
            <a:custGeom>
              <a:avLst/>
              <a:gdLst/>
              <a:ahLst/>
              <a:rect l="l" t="t" r="r" b="b"/>
              <a:pathLst>
                <a:path w="576" h="433">
                  <a:moveTo>
                    <a:pt x="575" y="324"/>
                  </a:moveTo>
                  <a:lnTo>
                    <a:pt x="107" y="324"/>
                  </a:lnTo>
                  <a:lnTo>
                    <a:pt x="107" y="432"/>
                  </a:lnTo>
                  <a:lnTo>
                    <a:pt x="0" y="215"/>
                  </a:lnTo>
                  <a:lnTo>
                    <a:pt x="107" y="0"/>
                  </a:lnTo>
                  <a:lnTo>
                    <a:pt x="107" y="107"/>
                  </a:lnTo>
                  <a:lnTo>
                    <a:pt x="575" y="107"/>
                  </a:lnTo>
                </a:path>
              </a:pathLst>
            </a:custGeom>
            <a:solidFill>
              <a:srgbClr val="ccb37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26800" y="4449960"/>
              <a:ext cx="1380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281240" y="3419640"/>
              <a:ext cx="1156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 = 20</a:t>
              </a:r>
              <a:r>
                <a:rPr b="1" lang="en-US" sz="2400" spc="-1" strike="noStrike">
                  <a:solidFill>
                    <a:srgbClr val="cdcdcd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241640" y="3784680"/>
              <a:ext cx="164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50?  No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08280" y="5073840"/>
              <a:ext cx="1822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Hypo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010-08E9-4062-9EC5-08C3FFC59C29}" type="slidenum">
              <a:t>40</a:t>
            </a:fld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59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ll Hypothesi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9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s What Is Tested by th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Serious Outcome If Incorrect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ways Has Equality Sign: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or 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nounced H Sub-Zero or H-O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- State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96A-4C62-4CB5-B672-AEB5D4D295A0}" type="slidenum">
              <a:t>41</a:t>
            </a:fld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ive Hypothesi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ite of Null Hypothesis (the Complement of the Null Hypothes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Has Inequality Sig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e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74A-7E41-4AED-9D3B-59F237D32EB6}" type="slidenum">
              <a:t>42</a:t>
            </a:fld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1523880" y="4076640"/>
            <a:ext cx="6470640" cy="1332000"/>
          </a:xfrm>
          <a:custGeom>
            <a:avLst/>
            <a:gdLst/>
            <a:ahLst/>
            <a:rect l="l" t="t" r="r" b="b"/>
            <a:pathLst>
              <a:path w="4076" h="839">
                <a:moveTo>
                  <a:pt x="0" y="0"/>
                </a:moveTo>
                <a:lnTo>
                  <a:pt x="0" y="838"/>
                </a:lnTo>
                <a:lnTo>
                  <a:pt x="4075" y="838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468440" y="4076640"/>
            <a:ext cx="3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468440" y="4208400"/>
            <a:ext cx="3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468440" y="4344840"/>
            <a:ext cx="3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1447920" y="4474800"/>
            <a:ext cx="50760" cy="2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468440" y="4611600"/>
            <a:ext cx="3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468440" y="4741920"/>
            <a:ext cx="3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468440" y="4878360"/>
            <a:ext cx="3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468440" y="5008680"/>
            <a:ext cx="3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468440" y="5140440"/>
            <a:ext cx="3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468440" y="5275440"/>
            <a:ext cx="30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99308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35012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0248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05484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40720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75920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1156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46716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81952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171880" y="5407200"/>
            <a:ext cx="0" cy="17280"/>
          </a:xfrm>
          <a:prstGeom prst="line">
            <a:avLst/>
          </a:prstGeom>
          <a:ln w="507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rot="16200000">
            <a:off x="957240" y="46958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332400" y="5499000"/>
            <a:ext cx="1722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ample Me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187520" y="5438880"/>
            <a:ext cx="364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d2afd"/>
                </a:solidFill>
                <a:latin typeface="Symbol"/>
                <a:ea typeface="Symbol"/>
              </a:rPr>
              <a:t>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370040" y="5637240"/>
            <a:ext cx="3261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d2afd"/>
                </a:solidFill>
                <a:latin typeface="Arial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234040" y="572940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59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Idea for Hypothesis Tes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666880" y="1143000"/>
            <a:ext cx="412452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eflects potential error between sample and popu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00640" y="2538360"/>
            <a:ext cx="237204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.. therefore, we reject the hypothesis that </a:t>
            </a:r>
            <a:r>
              <a:rPr b="0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= 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1523880" y="2362320"/>
            <a:ext cx="6353280" cy="4026960"/>
            <a:chOff x="1523880" y="2362320"/>
            <a:chExt cx="6353280" cy="4026960"/>
          </a:xfrm>
        </p:grpSpPr>
        <p:sp>
          <p:nvSpPr>
            <p:cNvPr id="1573" name=""/>
            <p:cNvSpPr/>
            <p:nvPr/>
          </p:nvSpPr>
          <p:spPr>
            <a:xfrm>
              <a:off x="4699080" y="2362320"/>
              <a:ext cx="3178080" cy="3058920"/>
            </a:xfrm>
            <a:custGeom>
              <a:avLst/>
              <a:gdLst/>
              <a:ahLst/>
              <a:rect l="l" t="t" r="r" b="b"/>
              <a:pathLst>
                <a:path w="2002" h="1927">
                  <a:moveTo>
                    <a:pt x="2001" y="1926"/>
                  </a:moveTo>
                  <a:lnTo>
                    <a:pt x="1790" y="1902"/>
                  </a:lnTo>
                  <a:lnTo>
                    <a:pt x="1686" y="1881"/>
                  </a:lnTo>
                  <a:lnTo>
                    <a:pt x="1579" y="1849"/>
                  </a:lnTo>
                  <a:lnTo>
                    <a:pt x="1475" y="1806"/>
                  </a:lnTo>
                  <a:lnTo>
                    <a:pt x="1369" y="1747"/>
                  </a:lnTo>
                  <a:lnTo>
                    <a:pt x="1265" y="1667"/>
                  </a:lnTo>
                  <a:lnTo>
                    <a:pt x="1054" y="1443"/>
                  </a:lnTo>
                  <a:lnTo>
                    <a:pt x="843" y="1128"/>
                  </a:lnTo>
                  <a:lnTo>
                    <a:pt x="632" y="752"/>
                  </a:lnTo>
                  <a:lnTo>
                    <a:pt x="528" y="560"/>
                  </a:lnTo>
                  <a:lnTo>
                    <a:pt x="422" y="379"/>
                  </a:lnTo>
                  <a:lnTo>
                    <a:pt x="318" y="224"/>
                  </a:lnTo>
                  <a:lnTo>
                    <a:pt x="211" y="104"/>
                  </a:lnTo>
                  <a:lnTo>
                    <a:pt x="107" y="27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523880" y="2362320"/>
              <a:ext cx="3176640" cy="3058920"/>
            </a:xfrm>
            <a:custGeom>
              <a:avLst/>
              <a:gdLst/>
              <a:ahLst/>
              <a:rect l="l" t="t" r="r" b="b"/>
              <a:pathLst>
                <a:path w="2001" h="1927">
                  <a:moveTo>
                    <a:pt x="0" y="1926"/>
                  </a:moveTo>
                  <a:lnTo>
                    <a:pt x="211" y="1902"/>
                  </a:lnTo>
                  <a:lnTo>
                    <a:pt x="317" y="1881"/>
                  </a:lnTo>
                  <a:lnTo>
                    <a:pt x="421" y="1849"/>
                  </a:lnTo>
                  <a:lnTo>
                    <a:pt x="525" y="1806"/>
                  </a:lnTo>
                  <a:lnTo>
                    <a:pt x="632" y="1747"/>
                  </a:lnTo>
                  <a:lnTo>
                    <a:pt x="736" y="1667"/>
                  </a:lnTo>
                  <a:lnTo>
                    <a:pt x="950" y="1443"/>
                  </a:lnTo>
                  <a:lnTo>
                    <a:pt x="1158" y="1128"/>
                  </a:lnTo>
                  <a:lnTo>
                    <a:pt x="1368" y="752"/>
                  </a:lnTo>
                  <a:lnTo>
                    <a:pt x="1475" y="560"/>
                  </a:lnTo>
                  <a:lnTo>
                    <a:pt x="1579" y="379"/>
                  </a:lnTo>
                  <a:lnTo>
                    <a:pt x="1686" y="224"/>
                  </a:lnTo>
                  <a:lnTo>
                    <a:pt x="1790" y="104"/>
                  </a:lnTo>
                  <a:lnTo>
                    <a:pt x="1896" y="27"/>
                  </a:lnTo>
                  <a:lnTo>
                    <a:pt x="2000" y="0"/>
                  </a:lnTo>
                </a:path>
              </a:pathLst>
            </a:custGeom>
            <a:noFill/>
            <a:ln cap="rnd" w="507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10440" y="5438520"/>
              <a:ext cx="896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cdcdcd"/>
                  </a:solidFill>
                  <a:latin typeface="Arial"/>
                </a:rPr>
                <a:t> </a:t>
              </a:r>
              <a:r>
                <a:rPr b="1" lang="en-US" sz="2500" spc="-1" strike="noStrike">
                  <a:solidFill>
                    <a:srgbClr val="0d2afd"/>
                  </a:solidFill>
                  <a:latin typeface="Arial"/>
                </a:rPr>
                <a:t>= 5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52880" y="4138560"/>
              <a:ext cx="3209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eb9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d2afd"/>
                  </a:solidFill>
                  <a:latin typeface="Arial"/>
                </a:rPr>
                <a:t>If in fact this were</a:t>
              </a:r>
              <a:br>
                <a:rPr sz="2400"/>
              </a:br>
              <a:r>
                <a:rPr b="0" lang="en-US" sz="2400" spc="-1" strike="noStrike">
                  <a:solidFill>
                    <a:srgbClr val="0d2afd"/>
                  </a:solidFill>
                  <a:latin typeface="Arial"/>
                </a:rPr>
                <a:t> the population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57760" y="5006880"/>
              <a:ext cx="0" cy="329760"/>
            </a:xfrm>
            <a:prstGeom prst="line">
              <a:avLst/>
            </a:prstGeom>
            <a:ln w="50760">
              <a:solidFill>
                <a:srgbClr val="ccb37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371840" y="5814720"/>
              <a:ext cx="10004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d2afd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d2afd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914400" y="2133720"/>
            <a:ext cx="2400480" cy="3831120"/>
            <a:chOff x="914400" y="2133720"/>
            <a:chExt cx="2400480" cy="3831120"/>
          </a:xfrm>
        </p:grpSpPr>
        <p:sp>
          <p:nvSpPr>
            <p:cNvPr id="1580" name=""/>
            <p:cNvSpPr/>
            <p:nvPr/>
          </p:nvSpPr>
          <p:spPr>
            <a:xfrm>
              <a:off x="914400" y="2133720"/>
              <a:ext cx="236700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…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it is unlikely that we would get a sample mean of this value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543040" y="5510160"/>
              <a:ext cx="771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776680" y="4016520"/>
              <a:ext cx="0" cy="132048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85D-0ED1-4C85-9E2C-CB918195A0B1}" type="slidenum">
              <a:t>43</a:t>
            </a:fld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vel of Significanc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in terms of a Prob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maximum unlikely Values of Sample Statistic if Null Hypothesis tr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jection Reg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ampling Dist’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e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  (alph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19320" indent="-5335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Values Are .01, .05, .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by Research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start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3EE-D859-4D94-BE6C-E261C1E1F5F7}" type="slidenum">
              <a:t>44</a:t>
            </a:fld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4079160" y="4948200"/>
            <a:ext cx="500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65680" y="525132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426440" y="354348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487600" y="354816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069600" y="4971960"/>
            <a:ext cx="253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tat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2450880" y="4935600"/>
            <a:ext cx="3571560" cy="1119960"/>
            <a:chOff x="2450880" y="4935600"/>
            <a:chExt cx="3571560" cy="1119960"/>
          </a:xfrm>
        </p:grpSpPr>
        <p:sp>
          <p:nvSpPr>
            <p:cNvPr id="1591" name=""/>
            <p:cNvSpPr/>
            <p:nvPr/>
          </p:nvSpPr>
          <p:spPr>
            <a:xfrm>
              <a:off x="3176280" y="4951440"/>
              <a:ext cx="127080" cy="12888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0" y="80"/>
                  </a:moveTo>
                  <a:lnTo>
                    <a:pt x="41" y="0"/>
                  </a:lnTo>
                  <a:lnTo>
                    <a:pt x="79" y="80"/>
                  </a:lnTo>
                  <a:lnTo>
                    <a:pt x="0" y="80"/>
                  </a:lnTo>
                </a:path>
              </a:pathLst>
            </a:custGeom>
            <a:solidFill>
              <a:srgbClr val="ccb374"/>
            </a:solidFill>
            <a:ln cap="rnd" w="1260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2" name=""/>
            <p:cNvGrpSpPr/>
            <p:nvPr/>
          </p:nvGrpSpPr>
          <p:grpSpPr>
            <a:xfrm>
              <a:off x="2450880" y="5058000"/>
              <a:ext cx="3571560" cy="997560"/>
              <a:chOff x="2450880" y="5058000"/>
              <a:chExt cx="3571560" cy="997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4911480" y="5231160"/>
                <a:ext cx="1110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Criti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022720" y="5600880"/>
                <a:ext cx="958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Val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450880" y="5231160"/>
                <a:ext cx="1110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Criti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562120" y="5600880"/>
                <a:ext cx="958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Arial"/>
                  </a:rPr>
                  <a:t>Val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3246120" y="5075280"/>
                <a:ext cx="0" cy="152640"/>
              </a:xfrm>
              <a:prstGeom prst="line">
                <a:avLst/>
              </a:prstGeom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5521320" y="5058000"/>
                <a:ext cx="0" cy="169920"/>
              </a:xfrm>
              <a:prstGeom prst="line">
                <a:avLst/>
              </a:prstGeom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9" name=""/>
            <p:cNvSpPr/>
            <p:nvPr/>
          </p:nvSpPr>
          <p:spPr>
            <a:xfrm>
              <a:off x="5451480" y="493560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79"/>
                  </a:moveTo>
                  <a:lnTo>
                    <a:pt x="41" y="0"/>
                  </a:lnTo>
                  <a:lnTo>
                    <a:pt x="80" y="79"/>
                  </a:lnTo>
                  <a:lnTo>
                    <a:pt x="0" y="79"/>
                  </a:lnTo>
                </a:path>
              </a:pathLst>
            </a:custGeom>
            <a:solidFill>
              <a:srgbClr val="ccb374"/>
            </a:solidFill>
            <a:ln cap="rnd" w="1260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4381560" y="2590920"/>
            <a:ext cx="3089160" cy="2276280"/>
          </a:xfrm>
          <a:custGeom>
            <a:avLst/>
            <a:gdLst/>
            <a:ahLst/>
            <a:rect l="l" t="t" r="r" b="b"/>
            <a:pathLst>
              <a:path w="1946" h="1434">
                <a:moveTo>
                  <a:pt x="1945" y="1433"/>
                </a:moveTo>
                <a:lnTo>
                  <a:pt x="1740" y="1415"/>
                </a:lnTo>
                <a:lnTo>
                  <a:pt x="1639" y="1399"/>
                </a:lnTo>
                <a:lnTo>
                  <a:pt x="1535" y="1376"/>
                </a:lnTo>
                <a:lnTo>
                  <a:pt x="1434" y="1345"/>
                </a:lnTo>
                <a:lnTo>
                  <a:pt x="1330" y="1301"/>
                </a:lnTo>
                <a:lnTo>
                  <a:pt x="1229" y="1241"/>
                </a:lnTo>
                <a:lnTo>
                  <a:pt x="1024" y="1075"/>
                </a:lnTo>
                <a:lnTo>
                  <a:pt x="820" y="839"/>
                </a:lnTo>
                <a:lnTo>
                  <a:pt x="615" y="560"/>
                </a:lnTo>
                <a:lnTo>
                  <a:pt x="514" y="417"/>
                </a:lnTo>
                <a:lnTo>
                  <a:pt x="410" y="282"/>
                </a:lnTo>
                <a:lnTo>
                  <a:pt x="309" y="166"/>
                </a:lnTo>
                <a:lnTo>
                  <a:pt x="205" y="78"/>
                </a:lnTo>
                <a:lnTo>
                  <a:pt x="104" y="2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295280" y="2590920"/>
            <a:ext cx="3087720" cy="2276280"/>
          </a:xfrm>
          <a:custGeom>
            <a:avLst/>
            <a:gdLst/>
            <a:ahLst/>
            <a:rect l="l" t="t" r="r" b="b"/>
            <a:pathLst>
              <a:path w="1945" h="1434">
                <a:moveTo>
                  <a:pt x="0" y="1433"/>
                </a:moveTo>
                <a:lnTo>
                  <a:pt x="205" y="1415"/>
                </a:lnTo>
                <a:lnTo>
                  <a:pt x="308" y="1399"/>
                </a:lnTo>
                <a:lnTo>
                  <a:pt x="410" y="1376"/>
                </a:lnTo>
                <a:lnTo>
                  <a:pt x="511" y="1345"/>
                </a:lnTo>
                <a:lnTo>
                  <a:pt x="614" y="1301"/>
                </a:lnTo>
                <a:lnTo>
                  <a:pt x="716" y="1241"/>
                </a:lnTo>
                <a:lnTo>
                  <a:pt x="923" y="1075"/>
                </a:lnTo>
                <a:lnTo>
                  <a:pt x="1125" y="839"/>
                </a:lnTo>
                <a:lnTo>
                  <a:pt x="1330" y="560"/>
                </a:lnTo>
                <a:lnTo>
                  <a:pt x="1434" y="417"/>
                </a:lnTo>
                <a:lnTo>
                  <a:pt x="1535" y="282"/>
                </a:lnTo>
                <a:lnTo>
                  <a:pt x="1638" y="166"/>
                </a:lnTo>
                <a:lnTo>
                  <a:pt x="1740" y="78"/>
                </a:lnTo>
                <a:lnTo>
                  <a:pt x="1843" y="21"/>
                </a:lnTo>
                <a:lnTo>
                  <a:pt x="1944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295280" y="2590920"/>
            <a:ext cx="6289920" cy="2333520"/>
          </a:xfrm>
          <a:custGeom>
            <a:avLst/>
            <a:gdLst/>
            <a:ahLst/>
            <a:rect l="l" t="t" r="r" b="b"/>
            <a:pathLst>
              <a:path w="3962" h="1470">
                <a:moveTo>
                  <a:pt x="0" y="0"/>
                </a:moveTo>
                <a:lnTo>
                  <a:pt x="0" y="1469"/>
                </a:lnTo>
                <a:lnTo>
                  <a:pt x="3961" y="1469"/>
                </a:lnTo>
              </a:path>
            </a:pathLst>
          </a:custGeom>
          <a:noFill/>
          <a:ln cap="rnd" w="25560">
            <a:solidFill>
              <a:srgbClr val="cdcd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230480" y="259092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230480" y="282420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230480" y="305928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30480" y="328932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30480" y="352440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230480" y="375912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230480" y="399240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230480" y="422424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30480" y="445788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230480" y="4692600"/>
            <a:ext cx="5220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58340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95808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32952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69916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06880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44024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988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18456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55420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25640" y="4935600"/>
            <a:ext cx="0" cy="32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rot="16200000">
            <a:off x="742680" y="371304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491240" y="52466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1450800" y="2174760"/>
            <a:ext cx="6150240" cy="2732040"/>
            <a:chOff x="1450800" y="2174760"/>
            <a:chExt cx="6150240" cy="2732040"/>
          </a:xfrm>
        </p:grpSpPr>
        <p:sp>
          <p:nvSpPr>
            <p:cNvPr id="1626" name=""/>
            <p:cNvSpPr/>
            <p:nvPr/>
          </p:nvSpPr>
          <p:spPr>
            <a:xfrm>
              <a:off x="1450800" y="3738240"/>
              <a:ext cx="1787400" cy="1160640"/>
            </a:xfrm>
            <a:custGeom>
              <a:avLst/>
              <a:gdLst/>
              <a:ahLst/>
              <a:rect l="l" t="t" r="r" b="b"/>
              <a:pathLst>
                <a:path w="1126" h="731">
                  <a:moveTo>
                    <a:pt x="1125" y="0"/>
                  </a:moveTo>
                  <a:lnTo>
                    <a:pt x="1125" y="730"/>
                  </a:lnTo>
                  <a:lnTo>
                    <a:pt x="0" y="730"/>
                  </a:lnTo>
                  <a:lnTo>
                    <a:pt x="124" y="693"/>
                  </a:lnTo>
                  <a:lnTo>
                    <a:pt x="246" y="653"/>
                  </a:lnTo>
                  <a:lnTo>
                    <a:pt x="361" y="606"/>
                  </a:lnTo>
                  <a:lnTo>
                    <a:pt x="472" y="555"/>
                  </a:lnTo>
                  <a:lnTo>
                    <a:pt x="578" y="501"/>
                  </a:lnTo>
                  <a:lnTo>
                    <a:pt x="678" y="439"/>
                  </a:lnTo>
                  <a:lnTo>
                    <a:pt x="772" y="375"/>
                  </a:lnTo>
                  <a:lnTo>
                    <a:pt x="856" y="305"/>
                  </a:lnTo>
                  <a:lnTo>
                    <a:pt x="937" y="234"/>
                  </a:lnTo>
                  <a:lnTo>
                    <a:pt x="1007" y="159"/>
                  </a:lnTo>
                  <a:lnTo>
                    <a:pt x="1070" y="79"/>
                  </a:lnTo>
                  <a:lnTo>
                    <a:pt x="1125" y="0"/>
                  </a:lnTo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99000" y="3746520"/>
              <a:ext cx="1787400" cy="1160280"/>
            </a:xfrm>
            <a:custGeom>
              <a:avLst/>
              <a:gdLst/>
              <a:ahLst/>
              <a:rect l="l" t="t" r="r" b="b"/>
              <a:pathLst>
                <a:path w="1126" h="731">
                  <a:moveTo>
                    <a:pt x="0" y="0"/>
                  </a:moveTo>
                  <a:lnTo>
                    <a:pt x="0" y="730"/>
                  </a:lnTo>
                  <a:lnTo>
                    <a:pt x="1125" y="730"/>
                  </a:lnTo>
                  <a:lnTo>
                    <a:pt x="999" y="696"/>
                  </a:lnTo>
                  <a:lnTo>
                    <a:pt x="877" y="656"/>
                  </a:lnTo>
                  <a:lnTo>
                    <a:pt x="761" y="609"/>
                  </a:lnTo>
                  <a:lnTo>
                    <a:pt x="651" y="557"/>
                  </a:lnTo>
                  <a:lnTo>
                    <a:pt x="544" y="501"/>
                  </a:lnTo>
                  <a:lnTo>
                    <a:pt x="444" y="442"/>
                  </a:lnTo>
                  <a:lnTo>
                    <a:pt x="351" y="378"/>
                  </a:lnTo>
                  <a:lnTo>
                    <a:pt x="266" y="308"/>
                  </a:lnTo>
                  <a:lnTo>
                    <a:pt x="189" y="236"/>
                  </a:lnTo>
                  <a:lnTo>
                    <a:pt x="116" y="162"/>
                  </a:lnTo>
                  <a:lnTo>
                    <a:pt x="55" y="82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707880" y="326376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0" lang="en-US" sz="2400" spc="-1" strike="noStrike">
                  <a:solidFill>
                    <a:srgbClr val="fcfeb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27720" y="3263760"/>
              <a:ext cx="37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69040" y="326844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/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288880" y="3268440"/>
              <a:ext cx="37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2" name=""/>
            <p:cNvGrpSpPr/>
            <p:nvPr/>
          </p:nvGrpSpPr>
          <p:grpSpPr>
            <a:xfrm>
              <a:off x="1738080" y="2174760"/>
              <a:ext cx="5564520" cy="963720"/>
              <a:chOff x="1738080" y="2174760"/>
              <a:chExt cx="5564520" cy="963720"/>
            </a:xfrm>
          </p:grpSpPr>
          <p:sp>
            <p:nvSpPr>
              <p:cNvPr id="1633" name=""/>
              <p:cNvSpPr/>
              <p:nvPr/>
            </p:nvSpPr>
            <p:spPr>
              <a:xfrm>
                <a:off x="1738080" y="2174760"/>
                <a:ext cx="1553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jec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909440" y="2544480"/>
                <a:ext cx="1213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49560" y="2174760"/>
                <a:ext cx="1553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jec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922720" y="2544480"/>
                <a:ext cx="1213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189160" y="3055680"/>
                <a:ext cx="1023840" cy="0"/>
              </a:xfrm>
              <a:prstGeom prst="line">
                <a:avLst/>
              </a:prstGeom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990440" y="2960640"/>
                <a:ext cx="177840" cy="177840"/>
              </a:xfrm>
              <a:custGeom>
                <a:avLst/>
                <a:gdLst/>
                <a:ahLst/>
                <a:rect l="l" t="t" r="r" b="b"/>
                <a:pathLst>
                  <a:path w="112" h="112">
                    <a:moveTo>
                      <a:pt x="111" y="0"/>
                    </a:moveTo>
                    <a:lnTo>
                      <a:pt x="0" y="57"/>
                    </a:lnTo>
                    <a:lnTo>
                      <a:pt x="111" y="111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5525640" y="3055680"/>
                <a:ext cx="1152360" cy="0"/>
              </a:xfrm>
              <a:prstGeom prst="line">
                <a:avLst/>
              </a:prstGeom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665760" y="2960640"/>
                <a:ext cx="177840" cy="177840"/>
              </a:xfrm>
              <a:custGeom>
                <a:avLst/>
                <a:gdLst/>
                <a:ahLst/>
                <a:rect l="l" t="t" r="r" b="b"/>
                <a:pathLst>
                  <a:path w="112" h="112">
                    <a:moveTo>
                      <a:pt x="0" y="111"/>
                    </a:moveTo>
                    <a:lnTo>
                      <a:pt x="111" y="57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1" name=""/>
            <p:cNvSpPr/>
            <p:nvPr/>
          </p:nvSpPr>
          <p:spPr>
            <a:xfrm>
              <a:off x="2220840" y="3689280"/>
              <a:ext cx="463320" cy="888840"/>
            </a:xfrm>
            <a:custGeom>
              <a:avLst/>
              <a:gdLst/>
              <a:ahLst/>
              <a:rect l="l" t="t" r="r" b="b"/>
              <a:pathLst>
                <a:path w="292" h="560">
                  <a:moveTo>
                    <a:pt x="0" y="0"/>
                  </a:moveTo>
                  <a:lnTo>
                    <a:pt x="47" y="5"/>
                  </a:lnTo>
                  <a:lnTo>
                    <a:pt x="91" y="18"/>
                  </a:lnTo>
                  <a:lnTo>
                    <a:pt x="130" y="44"/>
                  </a:lnTo>
                  <a:lnTo>
                    <a:pt x="164" y="75"/>
                  </a:lnTo>
                  <a:lnTo>
                    <a:pt x="190" y="114"/>
                  </a:lnTo>
                  <a:lnTo>
                    <a:pt x="208" y="155"/>
                  </a:lnTo>
                  <a:lnTo>
                    <a:pt x="213" y="202"/>
                  </a:lnTo>
                  <a:lnTo>
                    <a:pt x="210" y="248"/>
                  </a:lnTo>
                  <a:lnTo>
                    <a:pt x="195" y="293"/>
                  </a:lnTo>
                  <a:lnTo>
                    <a:pt x="182" y="337"/>
                  </a:lnTo>
                  <a:lnTo>
                    <a:pt x="177" y="383"/>
                  </a:lnTo>
                  <a:lnTo>
                    <a:pt x="184" y="427"/>
                  </a:lnTo>
                  <a:lnTo>
                    <a:pt x="200" y="471"/>
                  </a:lnTo>
                  <a:lnTo>
                    <a:pt x="226" y="510"/>
                  </a:lnTo>
                  <a:lnTo>
                    <a:pt x="260" y="541"/>
                  </a:lnTo>
                  <a:lnTo>
                    <a:pt x="291" y="559"/>
                  </a:lnTo>
                </a:path>
              </a:pathLst>
            </a:custGeom>
            <a:noFill/>
            <a:ln cap="rnd" w="1260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665440" y="4503600"/>
              <a:ext cx="164880" cy="14760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20" y="0"/>
                  </a:moveTo>
                  <a:lnTo>
                    <a:pt x="103" y="66"/>
                  </a:lnTo>
                  <a:lnTo>
                    <a:pt x="0" y="92"/>
                  </a:lnTo>
                  <a:lnTo>
                    <a:pt x="20" y="0"/>
                  </a:lnTo>
                </a:path>
              </a:pathLst>
            </a:custGeom>
            <a:solidFill>
              <a:srgbClr val="ccb374"/>
            </a:solidFill>
            <a:ln cap="rnd" w="1260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983200" y="3671640"/>
              <a:ext cx="1257120" cy="766800"/>
            </a:xfrm>
            <a:custGeom>
              <a:avLst/>
              <a:gdLst/>
              <a:ahLst/>
              <a:rect l="l" t="t" r="r" b="b"/>
              <a:pathLst>
                <a:path w="792" h="483">
                  <a:moveTo>
                    <a:pt x="791" y="0"/>
                  </a:moveTo>
                  <a:lnTo>
                    <a:pt x="772" y="57"/>
                  </a:lnTo>
                  <a:lnTo>
                    <a:pt x="744" y="112"/>
                  </a:lnTo>
                  <a:lnTo>
                    <a:pt x="708" y="161"/>
                  </a:lnTo>
                  <a:lnTo>
                    <a:pt x="663" y="205"/>
                  </a:lnTo>
                  <a:lnTo>
                    <a:pt x="614" y="239"/>
                  </a:lnTo>
                  <a:lnTo>
                    <a:pt x="557" y="267"/>
                  </a:lnTo>
                  <a:lnTo>
                    <a:pt x="500" y="283"/>
                  </a:lnTo>
                  <a:lnTo>
                    <a:pt x="438" y="291"/>
                  </a:lnTo>
                  <a:lnTo>
                    <a:pt x="378" y="288"/>
                  </a:lnTo>
                  <a:lnTo>
                    <a:pt x="316" y="285"/>
                  </a:lnTo>
                  <a:lnTo>
                    <a:pt x="254" y="293"/>
                  </a:lnTo>
                  <a:lnTo>
                    <a:pt x="197" y="309"/>
                  </a:lnTo>
                  <a:lnTo>
                    <a:pt x="140" y="337"/>
                  </a:lnTo>
                  <a:lnTo>
                    <a:pt x="91" y="371"/>
                  </a:lnTo>
                  <a:lnTo>
                    <a:pt x="46" y="415"/>
                  </a:lnTo>
                  <a:lnTo>
                    <a:pt x="10" y="464"/>
                  </a:lnTo>
                  <a:lnTo>
                    <a:pt x="0" y="482"/>
                  </a:lnTo>
                </a:path>
              </a:pathLst>
            </a:custGeom>
            <a:noFill/>
            <a:ln cap="rnd" w="1260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908680" y="4408200"/>
              <a:ext cx="139680" cy="169920"/>
            </a:xfrm>
            <a:custGeom>
              <a:avLst/>
              <a:gdLst/>
              <a:ahLst/>
              <a:rect l="l" t="t" r="r" b="b"/>
              <a:pathLst>
                <a:path w="88" h="107">
                  <a:moveTo>
                    <a:pt x="87" y="34"/>
                  </a:moveTo>
                  <a:lnTo>
                    <a:pt x="10" y="106"/>
                  </a:lnTo>
                  <a:lnTo>
                    <a:pt x="0" y="0"/>
                  </a:lnTo>
                  <a:lnTo>
                    <a:pt x="87" y="34"/>
                  </a:lnTo>
                </a:path>
              </a:pathLst>
            </a:custGeom>
            <a:solidFill>
              <a:srgbClr val="ccb374"/>
            </a:solidFill>
            <a:ln cap="rnd" w="1260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-Tailed Test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295280" y="1371600"/>
            <a:ext cx="3971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3246480" y="1666800"/>
            <a:ext cx="5293800" cy="3289320"/>
            <a:chOff x="3246480" y="1666800"/>
            <a:chExt cx="5293800" cy="3289320"/>
          </a:xfrm>
        </p:grpSpPr>
        <p:sp>
          <p:nvSpPr>
            <p:cNvPr id="1648" name=""/>
            <p:cNvSpPr/>
            <p:nvPr/>
          </p:nvSpPr>
          <p:spPr>
            <a:xfrm>
              <a:off x="3456000" y="4576680"/>
              <a:ext cx="1842480" cy="0"/>
            </a:xfrm>
            <a:prstGeom prst="line">
              <a:avLst/>
            </a:prstGeom>
            <a:ln w="255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9" name=""/>
            <p:cNvGrpSpPr/>
            <p:nvPr/>
          </p:nvGrpSpPr>
          <p:grpSpPr>
            <a:xfrm>
              <a:off x="3246480" y="1666800"/>
              <a:ext cx="5293800" cy="3289320"/>
              <a:chOff x="3246480" y="1666800"/>
              <a:chExt cx="5293800" cy="3289320"/>
            </a:xfrm>
          </p:grpSpPr>
          <p:sp>
            <p:nvSpPr>
              <p:cNvPr id="1650" name=""/>
              <p:cNvSpPr/>
              <p:nvPr/>
            </p:nvSpPr>
            <p:spPr>
              <a:xfrm>
                <a:off x="3337920" y="3581280"/>
                <a:ext cx="204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6600"/>
                    </a:solidFill>
                    <a:latin typeface="Arial"/>
                  </a:rPr>
                  <a:t>Nonrejec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762000" y="3951000"/>
                <a:ext cx="1213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6600"/>
                    </a:solidFill>
                    <a:latin typeface="Arial"/>
                  </a:rPr>
                  <a:t>Reg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3246480" y="3043080"/>
                <a:ext cx="0" cy="1892160"/>
              </a:xfrm>
              <a:prstGeom prst="line">
                <a:avLst/>
              </a:prstGeom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5521320" y="3043080"/>
                <a:ext cx="0" cy="1913040"/>
              </a:xfrm>
              <a:prstGeom prst="line">
                <a:avLst/>
              </a:prstGeom>
              <a:ln w="25560">
                <a:solidFill>
                  <a:srgbClr val="cdcd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303360" y="4498920"/>
                <a:ext cx="2139840" cy="152280"/>
              </a:xfrm>
              <a:custGeom>
                <a:avLst/>
                <a:gdLst/>
                <a:ahLst/>
                <a:rect l="l" t="t" r="r" b="b"/>
                <a:pathLst>
                  <a:path w="1348" h="96">
                    <a:moveTo>
                      <a:pt x="101" y="0"/>
                    </a:moveTo>
                    <a:lnTo>
                      <a:pt x="0" y="46"/>
                    </a:lnTo>
                    <a:lnTo>
                      <a:pt x="101" y="95"/>
                    </a:lnTo>
                    <a:lnTo>
                      <a:pt x="96" y="88"/>
                    </a:lnTo>
                    <a:lnTo>
                      <a:pt x="93" y="81"/>
                    </a:lnTo>
                    <a:lnTo>
                      <a:pt x="91" y="73"/>
                    </a:lnTo>
                    <a:lnTo>
                      <a:pt x="91" y="66"/>
                    </a:lnTo>
                    <a:lnTo>
                      <a:pt x="88" y="58"/>
                    </a:lnTo>
                    <a:lnTo>
                      <a:pt x="88" y="52"/>
                    </a:lnTo>
                    <a:lnTo>
                      <a:pt x="88" y="41"/>
                    </a:lnTo>
                    <a:lnTo>
                      <a:pt x="88" y="34"/>
                    </a:lnTo>
                    <a:lnTo>
                      <a:pt x="91" y="27"/>
                    </a:lnTo>
                    <a:lnTo>
                      <a:pt x="91" y="20"/>
                    </a:lnTo>
                    <a:lnTo>
                      <a:pt x="93" y="12"/>
                    </a:lnTo>
                    <a:lnTo>
                      <a:pt x="96" y="5"/>
                    </a:lnTo>
                    <a:lnTo>
                      <a:pt x="101" y="0"/>
                    </a:lnTo>
                    <a:lnTo>
                      <a:pt x="1246" y="0"/>
                    </a:lnTo>
                    <a:lnTo>
                      <a:pt x="1347" y="46"/>
                    </a:lnTo>
                    <a:lnTo>
                      <a:pt x="1246" y="95"/>
                    </a:lnTo>
                    <a:lnTo>
                      <a:pt x="1251" y="88"/>
                    </a:lnTo>
                    <a:lnTo>
                      <a:pt x="1254" y="81"/>
                    </a:lnTo>
                    <a:lnTo>
                      <a:pt x="1257" y="73"/>
                    </a:lnTo>
                    <a:lnTo>
                      <a:pt x="1257" y="66"/>
                    </a:lnTo>
                    <a:lnTo>
                      <a:pt x="1259" y="58"/>
                    </a:lnTo>
                    <a:lnTo>
                      <a:pt x="1259" y="52"/>
                    </a:lnTo>
                    <a:lnTo>
                      <a:pt x="1259" y="41"/>
                    </a:lnTo>
                    <a:lnTo>
                      <a:pt x="1259" y="34"/>
                    </a:lnTo>
                    <a:lnTo>
                      <a:pt x="1257" y="27"/>
                    </a:lnTo>
                    <a:lnTo>
                      <a:pt x="1257" y="20"/>
                    </a:lnTo>
                    <a:lnTo>
                      <a:pt x="1254" y="12"/>
                    </a:lnTo>
                    <a:lnTo>
                      <a:pt x="1251" y="5"/>
                    </a:lnTo>
                    <a:lnTo>
                      <a:pt x="1246" y="0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578040" y="3038400"/>
                <a:ext cx="1533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Arial"/>
                  </a:rPr>
                  <a:t>1 - </a:t>
                </a:r>
                <a:r>
                  <a:rPr b="1" lang="en-US" sz="24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>
                <a:off x="4414320" y="1906560"/>
                <a:ext cx="1155240" cy="1130040"/>
              </a:xfrm>
              <a:prstGeom prst="line">
                <a:avLst/>
              </a:prstGeom>
              <a:ln w="12600">
                <a:solidFill>
                  <a:srgbClr val="ccb37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559120" y="1666800"/>
                <a:ext cx="29811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evel of Confide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6A7-0EB0-4F6C-822B-16D76D4C748E}" type="slidenum">
              <a:t>45</a:t>
            </a:fld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84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Sample Statistic to Standardized Z Variabl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84200" indent="0">
              <a:lnSpc>
                <a:spcPct val="100000"/>
              </a:lnSpc>
              <a:spcBef>
                <a:spcPts val="15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ri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2714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Z-Test Statistic falls in Critical Region, 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2714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Do Not 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-Test Statistic (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Known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2819160" y="2666880"/>
            <a:ext cx="3438720" cy="1521360"/>
            <a:chOff x="2819160" y="2666880"/>
            <a:chExt cx="3438720" cy="1521360"/>
          </a:xfrm>
        </p:grpSpPr>
        <p:sp>
          <p:nvSpPr>
            <p:cNvPr id="1661" name=""/>
            <p:cNvSpPr/>
            <p:nvPr/>
          </p:nvSpPr>
          <p:spPr>
            <a:xfrm>
              <a:off x="5907240" y="2862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056120" y="3417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549760" y="3733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75320" y="3371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014800" y="266688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97400" y="266688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388040" y="2862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637080" y="2712960"/>
              <a:ext cx="236520" cy="144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510080" y="2954160"/>
              <a:ext cx="114480" cy="180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76720" y="3510000"/>
              <a:ext cx="115920" cy="1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576600" y="3236760"/>
              <a:ext cx="1112760" cy="144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156280" y="2712960"/>
              <a:ext cx="236520" cy="144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5419800" y="3996720"/>
              <a:ext cx="38160" cy="42840"/>
            </a:xfrm>
            <a:prstGeom prst="line">
              <a:avLst/>
            </a:prstGeom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470560" y="4011480"/>
              <a:ext cx="66600" cy="112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5549760" y="3798360"/>
              <a:ext cx="74880" cy="3538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635800" y="3805200"/>
              <a:ext cx="226800" cy="1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05400" y="3747960"/>
              <a:ext cx="473040" cy="144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095800" y="3236760"/>
              <a:ext cx="1101960" cy="144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819160" y="294948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129120" y="294948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900600" y="266688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646880" y="294948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419800" y="266688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146480" y="2666880"/>
              <a:ext cx="35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806640" y="3224160"/>
              <a:ext cx="365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66040" y="2666880"/>
              <a:ext cx="35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325840" y="3178080"/>
              <a:ext cx="365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47E-A8AE-4369-B15E-72D5256C6865}" type="slidenum">
              <a:t>46</a:t>
            </a:fld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91520" cy="59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rors in Making Decis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I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ject a Null Hypothesis that is actually tr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Serious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Type I Error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1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Level of Signific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 II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ject a Null Hypothesis that is actually fal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Type II Error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e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D72-0DAB-4080-A911-9DED395CE551}" type="slidenum">
              <a:t>47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7233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 Diagram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67680" y="331272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96040" y="2441520"/>
            <a:ext cx="444600" cy="749520"/>
          </a:xfrm>
          <a:prstGeom prst="line">
            <a:avLst/>
          </a:prstGeom>
          <a:ln w="12600">
            <a:solidFill>
              <a:srgbClr val="ccb37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66880" y="5180040"/>
            <a:ext cx="319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72040" y="5294160"/>
            <a:ext cx="235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4240" y="1293840"/>
            <a:ext cx="754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:  Toss 2 Coins.  Note 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08160" y="4173480"/>
            <a:ext cx="4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44760" y="189720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70320" y="2808360"/>
            <a:ext cx="4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44760" y="371808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70320" y="4629240"/>
            <a:ext cx="4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46080" y="1897200"/>
            <a:ext cx="84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70560" y="2808360"/>
            <a:ext cx="790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70560" y="3718080"/>
            <a:ext cx="790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94680" y="4629240"/>
            <a:ext cx="739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53880" y="2352600"/>
            <a:ext cx="51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6280" y="2673360"/>
            <a:ext cx="1366920" cy="1822320"/>
          </a:xfrm>
          <a:custGeom>
            <a:avLst/>
            <a:gdLst/>
            <a:ahLst/>
            <a:rect l="l" t="t" r="r" b="b"/>
            <a:pathLst>
              <a:path w="861" h="1148">
                <a:moveTo>
                  <a:pt x="860" y="1147"/>
                </a:moveTo>
                <a:lnTo>
                  <a:pt x="0" y="573"/>
                </a:lnTo>
                <a:lnTo>
                  <a:pt x="860" y="0"/>
                </a:lnTo>
              </a:path>
            </a:pathLst>
          </a:custGeom>
          <a:noFill/>
          <a:ln cap="rnd" w="25560">
            <a:solidFill>
              <a:srgbClr val="cdcd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81280" y="2217600"/>
            <a:ext cx="1478160" cy="912960"/>
          </a:xfrm>
          <a:custGeom>
            <a:avLst/>
            <a:gdLst/>
            <a:ahLst/>
            <a:rect l="l" t="t" r="r" b="b"/>
            <a:pathLst>
              <a:path w="931" h="575">
                <a:moveTo>
                  <a:pt x="930" y="574"/>
                </a:moveTo>
                <a:lnTo>
                  <a:pt x="0" y="287"/>
                </a:lnTo>
                <a:lnTo>
                  <a:pt x="930" y="0"/>
                </a:lnTo>
              </a:path>
            </a:pathLst>
          </a:custGeom>
          <a:noFill/>
          <a:ln cap="rnd" w="25560">
            <a:solidFill>
              <a:srgbClr val="cdcd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81280" y="4038480"/>
            <a:ext cx="1478160" cy="912960"/>
          </a:xfrm>
          <a:custGeom>
            <a:avLst/>
            <a:gdLst/>
            <a:ahLst/>
            <a:rect l="l" t="t" r="r" b="b"/>
            <a:pathLst>
              <a:path w="931" h="575">
                <a:moveTo>
                  <a:pt x="930" y="574"/>
                </a:moveTo>
                <a:lnTo>
                  <a:pt x="0" y="287"/>
                </a:lnTo>
                <a:lnTo>
                  <a:pt x="930" y="0"/>
                </a:lnTo>
              </a:path>
            </a:pathLst>
          </a:custGeom>
          <a:noFill/>
          <a:ln cap="rnd" w="25560">
            <a:solidFill>
              <a:srgbClr val="cdcd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F45-3910-45E9-B207-A0054E914D70}" type="slidenum">
              <a:t>5</a:t>
            </a:fld>
          </a:p>
        </p:txBody>
      </p:sp>
    </p:spTree>
  </p:cSld>
  <p:transition advTm="24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1752480" y="1828800"/>
          <a:ext cx="6172200" cy="45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61722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4141080" y="122724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D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5760" y="2979720"/>
            <a:ext cx="9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74840" y="228600"/>
            <a:ext cx="57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ilities for Two 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A4B-5B14-479C-A529-3BB7B3BA6F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6875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ing Compound Ev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in Both Event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’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1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 (i.e.,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in Either Event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’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1436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 (i.e.,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633-4D90-4DB9-911F-E45F61565430}" type="slidenum">
              <a:t>7</a:t>
            </a:fld>
          </a:p>
        </p:txBody>
      </p:sp>
    </p:spTree>
  </p:cSld>
  <p:transition advTm="24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65040" y="5257800"/>
            <a:ext cx="855036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nt the combinations that yield 7 and add the individual prob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the probability of the event, A, “Rolling a sev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(A) = P(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+ P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+ P(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+…+ P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= 6/36 = 1/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276720" y="1676520"/>
          <a:ext cx="5486400" cy="362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4864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5185440" y="118908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16400" y="3048120"/>
            <a:ext cx="9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99600" y="150840"/>
            <a:ext cx="70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t Probabilities for Two 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1219320"/>
            <a:ext cx="3063960" cy="1008720"/>
          </a:xfrm>
          <a:prstGeom prst="rect">
            <a:avLst/>
          </a:prstGeom>
          <a:solidFill>
            <a:srgbClr val="e5d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wing a Sev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the two D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048-67BF-411E-9510-AFD76C10DE3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162920" cy="59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 Rul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Used to Get Compound Probabilities for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Ev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= P(A) + P(B) -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F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tually Exclu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274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A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) = P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) = P(A) + P(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34A-9454-4011-A4BA-B44BBB165AFF}" type="slidenum">
              <a:t>9</a:t>
            </a:fld>
          </a:p>
        </p:txBody>
      </p:sp>
    </p:spTree>
  </p:cSld>
  <p:transition advTm="24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22:46:58Z</dcterms:created>
  <dc:creator>Prof. John M. Veitch, CFA</dc:creator>
  <dc:description/>
  <cp:keywords>Quantitative Methods Time Value probability statistics</cp:keywords>
  <dc:language>en-US</dc:language>
  <cp:lastModifiedBy>John M. Veitch</cp:lastModifiedBy>
  <cp:lastPrinted>1998-01-06T19:36:30Z</cp:lastPrinted>
  <dcterms:modified xsi:type="dcterms:W3CDTF">2002-12-12T03:25:23Z</dcterms:modified>
  <cp:revision>54</cp:revision>
  <dc:subject>Investent Tools - Quantitative Methods</dc:subject>
  <dc:title>CFA Level I –    Study Session #2</dc:title>
</cp:coreProperties>
</file>